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172200" y="6324480"/>
            <a:ext cx="1219320" cy="262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505640" y="6019920"/>
            <a:ext cx="1638360" cy="6271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ONARDO DA VIN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735600" y="76320"/>
            <a:ext cx="2332080" cy="984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ec.europa.eu/education/erasmus-for-all" TargetMode="External"/><Relationship Id="rId2" Type="http://schemas.openxmlformats.org/officeDocument/2006/relationships/hyperlink" Target="http://ec.europa.eu/education/erasmus-for-all" TargetMode="External"/><Relationship Id="rId3" Type="http://schemas.openxmlformats.org/officeDocument/2006/relationships/hyperlink" Target="http://ec.europa.eu/education/erasmus-for-all" TargetMode="External"/><Relationship Id="rId4" Type="http://schemas.openxmlformats.org/officeDocument/2006/relationships/hyperlink" Target="http://ec.europa.eu/education/erasmus-for-all" TargetMode="External"/><Relationship Id="rId5" Type="http://schemas.openxmlformats.org/officeDocument/2006/relationships/hyperlink" Target="http://ec.europa.eu/education/erasmus-for-all" TargetMode="External"/><Relationship Id="rId6" Type="http://schemas.openxmlformats.org/officeDocument/2006/relationships/hyperlink" Target="http://ec.europa.eu/education/erasmus-for-all" TargetMode="External"/><Relationship Id="rId7" Type="http://schemas.openxmlformats.org/officeDocument/2006/relationships/hyperlink" Target="http://ec.europa.eu/education/erasmus-for-all" TargetMode="External"/><Relationship Id="rId8" Type="http://schemas.openxmlformats.org/officeDocument/2006/relationships/hyperlink" Target="http://ec.europa.eu/education/erasmus-for-all" TargetMode="External"/><Relationship Id="rId9" Type="http://schemas.openxmlformats.org/officeDocument/2006/relationships/hyperlink" Target="http://ec.europa.eu/education/erasmus-for-all" TargetMode="External"/><Relationship Id="rId10" Type="http://schemas.openxmlformats.org/officeDocument/2006/relationships/hyperlink" Target="http://ec.europa.eu/education/erasmus-for-all" TargetMode="External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erspectivas de Futuro de la Educación y la Formación Profesional en el Ámbito Europe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ristina Galleg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visión Leonardo da Vinci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cción Clave 1.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ovilidad individual para el aprendizaj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600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vilidad de profesores, formadores, orientadores y monitores juveni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vilidad de estudiantes de enseñanza superior y de formación profesio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rasmus Master movilidad, mediante un nuevo mecanismo de garantía de préstam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vilidad de jóvenes, incluyendo voluntariado e intercambi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cción Clave 1.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ovilidad individual para el aprendizaj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60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ovilidad del perso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pel clave de profesores y formadores en la mejora de los resultados de los estudiantes y los sistemas de educa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 reforzará la movilidad, incluso de larga duración, para promover la excelencia de la enseñanza, desarrollar métodos innovadores y promover la calidad en las institucione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ás oportunidades para la movilidad para el aprendizaje de monitores juveniles y para reforzar el intercambio de buenas prácticas entre organizaciones de jóven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cción Clave 1.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ovilidad individual para el aprendizaj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Movilidad de estudiantes de enseñanza superi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Creciente internacionalización del sector de la enseñanza superior, el programa pretende alcanzar el objetivo de un 20% de movilidad de estudian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Basado en los resultados de Erasmus Mundus, el programa reforzará el apoyo a titulaciones conjuntas, en el marco de programas de calidad  impartidos por universidades EU y de terceros paí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Erasmus Master: el programa establece un sistema de garantía de préstamos, para realizar un programa completo de master en otro país UE o E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16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cción Clave 1.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ovilidad individual para el aprendizaj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vilidad en educación y formación profesio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l acceso de los estudiantes de formación profesional a los métodos, prácticas y tecnologías de otros países mejorará su empleabili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l aprendizaje basado en el trabajo, en todos los niveles de la educación, es imprescindible para mejorar la empleabilidad, especialmente en el contexto actual de altos niveles de desempleo juvenil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r ello, el programa incrementa sustancialmente la financiación para la movilidad de estos estudian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cción Clave 1.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ovilidad individual para el aprendizaj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292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ácticas transnacionales en empres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orme potencial para mejorar la empleabilidad el nuevo programa contempla un importante estímulo de esta acción para estudiantes de formación profesional y de enseñanza superio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l objetivo es reforzar la relación entre la educación  y la empresa, fomentar la capacidad emprendedora y facilitar la transición de la educación al mundo del trabaj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cción Clave 1.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ovilidad individual para el aprendizaj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ducación no form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lementa la educación form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cidencia en desarrollo personal, inclusión  social, ciudadanía activa y empleabilidad de los jóven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mpacto especial en jóvenes de sectores desfavorecid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 incrementará la movilidad de jóvenes mediante intercambios y voluntariad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58920" y="1125360"/>
            <a:ext cx="7703640" cy="4102560"/>
            <a:chOff x="1258920" y="1125360"/>
            <a:chExt cx="7703640" cy="4102560"/>
          </a:xfrm>
        </p:grpSpPr>
        <p:cxnSp>
          <p:nvCxnSpPr>
            <p:cNvPr id="94" name="_s222226"/>
            <p:cNvCxnSpPr>
              <a:stCxn id="95" idx="0"/>
              <a:endCxn id="96" idx="2"/>
            </p:cNvCxnSpPr>
            <p:nvPr/>
          </p:nvCxnSpPr>
          <p:spPr>
            <a:xfrm flipV="1" rot="16200000">
              <a:off x="6197760" y="1676520"/>
              <a:ext cx="821160" cy="29991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22222"/>
            <p:cNvCxnSpPr>
              <a:stCxn id="98" idx="0"/>
              <a:endCxn id="96" idx="2"/>
            </p:cNvCxnSpPr>
            <p:nvPr/>
          </p:nvCxnSpPr>
          <p:spPr>
            <a:xfrm flipV="1" rot="16200000">
              <a:off x="5199120" y="2675160"/>
              <a:ext cx="821160" cy="100152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22221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4200480" y="2677320"/>
              <a:ext cx="821160" cy="9975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22220"/>
            <p:cNvCxnSpPr>
              <a:stCxn id="102" idx="0"/>
              <a:endCxn id="96" idx="2"/>
            </p:cNvCxnSpPr>
            <p:nvPr/>
          </p:nvCxnSpPr>
          <p:spPr>
            <a:xfrm flipH="1" flipV="1" rot="5400000">
              <a:off x="3202920" y="1679760"/>
              <a:ext cx="821160" cy="2993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_s222216"/>
            <p:cNvSpPr/>
            <p:nvPr/>
          </p:nvSpPr>
          <p:spPr>
            <a:xfrm>
              <a:off x="4253400" y="1125360"/>
              <a:ext cx="171216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cción clav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ooper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222217"/>
            <p:cNvSpPr/>
            <p:nvPr/>
          </p:nvSpPr>
          <p:spPr>
            <a:xfrm>
              <a:off x="1258920" y="3587040"/>
              <a:ext cx="171216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Asocia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estratég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222218"/>
            <p:cNvSpPr/>
            <p:nvPr/>
          </p:nvSpPr>
          <p:spPr>
            <a:xfrm>
              <a:off x="3256560" y="3587040"/>
              <a:ext cx="171216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Alianzas para 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onocimiento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Alianzas para l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ompetenci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ectorial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222219"/>
            <p:cNvSpPr/>
            <p:nvPr/>
          </p:nvSpPr>
          <p:spPr>
            <a:xfrm>
              <a:off x="5254200" y="3587040"/>
              <a:ext cx="171216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lataform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informát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22225"/>
            <p:cNvSpPr/>
            <p:nvPr/>
          </p:nvSpPr>
          <p:spPr>
            <a:xfrm>
              <a:off x="7252200" y="3587040"/>
              <a:ext cx="171036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ejora de l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apac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cción clave 2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ociaciones estratégica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ociaciones estratégicas transnacionales entre instituciones implicadas en la educación, formación y/o actividades para los jóvenes y otros sectores relevantes para la realización de actividades conjuntas y la promoción de intercambios, experiencias y conocimiento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cción clave 2</a:t>
            </a:r>
            <a:br>
              <a:rPr sz="32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ociaciones transnacionales entre empresas e instituciones educativ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lianzas para el conocimiento, entre instituciones de enseñanza superior y empresas, para promover la creatividad la innovación y la capacidad emprendedora, ofreciendo importantes oportunidades de aprendizaje incluyendo el desarrollo de nuevos curricul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lianzas para las competencias sectoriales, entre instituciones que imparten educación y formación y empresas, promoviendo la empleabilidad, creando nuevos curricula específicos, desarrollando métodos innovadores en la enseñanza y la formación y poniendo en práctica las herramientas de reconocimiento en la Un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cción clave 2</a:t>
            </a:r>
            <a:br>
              <a:rPr sz="32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ataformas informátic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Apoyo de plataformas TIC, incluyendo e-Twinning, para los sectores de la educación y la juventud, que permitan la igualdad en el aprendizaje, la movilidad virtual y el intercambio de buenas prácticas y el acceso de participantes de países vecinos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uevos programas de educación, formación, juventud y cultur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952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Con el firme convencimiento de que la  inversión en educación, formación y creatividad es esencial para las generaciones futuras, la Comisión Europea adoptó, el 23 de noviembre, la propuesta de dos nuevos program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Erasmus para tod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Europa creativ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90720" y="1981080"/>
            <a:ext cx="3809880" cy="4114800"/>
            <a:chOff x="990720" y="1981080"/>
            <a:chExt cx="3809880" cy="41148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990720" y="1981080"/>
              <a:ext cx="38098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 txBox="1"/>
            <p:nvPr/>
          </p:nvSpPr>
          <p:spPr>
            <a:xfrm>
              <a:off x="990720" y="1981080"/>
              <a:ext cx="380988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cción clave 2</a:t>
            </a:r>
            <a:br>
              <a:rPr sz="32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operación internacional y mejora de las capacida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ntegración de la cooperación con terceros países en las acciones clave del Programa, de acuerdo con las prioridaes UE en política exteri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Mejora de la calidad, relevancia y gobernanza de la enseñanza superi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Respuesta a la demanda política para reforzar el apoyo a países vecinos de la UE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Apoyará las capacidades de las instituciones y la modernización de los sistemas de enseñanza superior a través de la cooperación y las medidas estructura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Relacionará estas actividades con la movilidad de personal y de estudiant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ntribuirá a la modernización de los sistemas y  las capacidades locales en Asia, América Latina  y Países AC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Apoyo a proyectos de cooperación en el área de la educación no forma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187280" y="981000"/>
            <a:ext cx="7704000" cy="4102200"/>
            <a:chOff x="1187280" y="981000"/>
            <a:chExt cx="7704000" cy="4102200"/>
          </a:xfrm>
        </p:grpSpPr>
        <p:cxnSp>
          <p:nvCxnSpPr>
            <p:cNvPr id="113" name="_s235534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977080" y="1683360"/>
              <a:ext cx="821160" cy="2696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35533"/>
            <p:cNvCxnSpPr>
              <a:stCxn id="117" idx="0"/>
              <a:endCxn id="115" idx="2"/>
            </p:cNvCxnSpPr>
            <p:nvPr/>
          </p:nvCxnSpPr>
          <p:spPr>
            <a:xfrm flipV="1">
              <a:off x="5039280" y="2621160"/>
              <a:ext cx="3600" cy="821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35532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3280680" y="1683360"/>
              <a:ext cx="821160" cy="2696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235528"/>
            <p:cNvSpPr/>
            <p:nvPr/>
          </p:nvSpPr>
          <p:spPr>
            <a:xfrm>
              <a:off x="3883680" y="981000"/>
              <a:ext cx="231120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cción clav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forma de 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olít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235529"/>
            <p:cNvSpPr/>
            <p:nvPr/>
          </p:nvSpPr>
          <p:spPr>
            <a:xfrm>
              <a:off x="1187280" y="3442320"/>
              <a:ext cx="231120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étodo abier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 coordinación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mestre europe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35530"/>
            <p:cNvSpPr/>
            <p:nvPr/>
          </p:nvSpPr>
          <p:spPr>
            <a:xfrm>
              <a:off x="3883680" y="3442320"/>
              <a:ext cx="231120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Herramien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urop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35531"/>
            <p:cNvSpPr/>
            <p:nvPr/>
          </p:nvSpPr>
          <p:spPr>
            <a:xfrm>
              <a:off x="6580080" y="3442320"/>
              <a:ext cx="231120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ialogo polít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cción clave 3</a:t>
            </a:r>
            <a:br>
              <a:rPr sz="32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oyo para la reforma polític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Orientación de la agenda EU en educación formación y juventud, a través del método abierto de coordinación así como de los procesos de Bolonia y Copenhag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Puesta en marcha de herramientas EU (Europass, EQF, ECTS, ECVET) y a redes europe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gendas políticas específicas para prioridades temátic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Reforma política para alcanzar los objetivos específicos de la Estrategia ET202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Refuerzo de la política de diálogo con terceros países y con países vecinos, así como con socios estratégicos de países desarrollados y emergente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rasmus para todos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tras acciones. Iniciativa Jean Monne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Promueve en el mundo entero la enseñanza y la investigación sobre la integración europea mediante la creación de cátedras Jean Mon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Apoya la actividad de organismos universitarios o asociaciones que trabajan sobre la integración europ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Organismos universitario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- Instituto Universitario Europeo de Florenc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- Colegio de Europ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Promueve el debate político sobre las prioridades estratégicas de la 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rasmus para todos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tras acciones. Depor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Refuerzo de la gobernanza y de la base de conocimientos sobre deporte en la U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Impulso de la actividad física favorable para la salud y a la utilización del potencial del deporte para la inclusión soci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Promoción de dobles carreras para la educación y la formación de los deportist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Lucha contra cuestiones como el dopaje, la violencia, el racismo y la intoleranci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Distribución del presupuest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63%  Movilidad para el aprendizaj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25%  Cooperació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4%    Reforma de las política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2%    Iniciativa Jean Monne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1%    Acción en el ámbito del depor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3%    Subvención A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2%    Gastos de administración 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ec.europa.eu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education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/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erasmus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-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for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-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al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99072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 Narrow"/>
              </a:rPr>
              <a:t>Programa Erasmus para todos</a:t>
            </a:r>
            <a:br>
              <a:rPr sz="2400"/>
            </a:br>
            <a:r>
              <a:rPr b="0" lang="es-ES" sz="2000" spc="-1" strike="noStrike">
                <a:solidFill>
                  <a:srgbClr val="000066"/>
                </a:solidFill>
                <a:latin typeface="Arial Narrow"/>
              </a:rPr>
              <a:t>http://ec.europa.eu/commission_2010-014/vassiliou/page/erasmus-for-all_en.ht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rasmus para todo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bierto a los sectores público y privado en las áreas de la educación, formación, juventud y deporte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ortunidad de aprender y estudiar en otros países para 5 millones de personas entre 2014 y 2020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quisición de nuevas competencias y mejora de la calidad de la educación y la formació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9.000 millones € (70% incremento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63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uropa creativa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les de personas que trabajan en cine, TV, cultura, música, artes, patrimonio y áreas afines, se beneficiarán de un incremento de la financiación europea a través del nuevo programa Europa Creativa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.800 millones € para 2014 - 202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stímulo a industrias culturales y creativas, fuente de empleo y crecimiento en Europ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rasmus para todo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grama para la educación, formación, juventud y deporte para 2014- 202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ioridades de la Estrategia Europa 2020 y sus iniciativas emblemátic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empla todos los niveles de la educación desde la perspectiva del aprendizaje permanente: enseñanza superior, educación y formación profesional, formación de adultos, educación escolar y juventu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luye la dimensión internacio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rasmus para todo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ducación y formación fundamentales para la innovación, la productividad y el crecimiento, especialmente en el contexto de la crisis económica y financier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l papel de la educación y la formación para el empleo, así como la formación en empresas, es especialmente importante para los jóvenes, principales afectados por la cris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fuerzo para alcanzar en 2020 los objetivos europeos de &lt;10% de abandono escolar, 40% de personas con estudios superiores. Contribuirán a alcanzar el objetivo para el empleo de la estrategia Europa 2020 (75%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lor añadido europeo mediante el refuerzo de los vínculos y las sinergias entre el programa y las principales prioridades políticas de la 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rasmus para todo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2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Basado en los programas 2007-2013, estructura mas sencilla y racional. Evita la fragmentación y solapamiento de actividades y objetiv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PAP: 6 subprogramas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  <a:ea typeface="Arial"/>
              </a:rPr>
              <a:t>⃰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, mas de 50 objetivos y 60 accion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Juventud en Acción: objetivos movilidad y educación no formal de jóvenes coincidentes con el PA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Cooperación internacional en enseñanza superior: 5 programas de cooperación 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(Erasmus Mundus, Tempus, Alfa, Edulink y el programa de cooperación con paises industrializad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  <a:ea typeface="Arial"/>
              </a:rPr>
              <a:t>⃰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Erasmus, Comenius, Leonardo, Grundtvig, Transversal y Jean Monn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structura y acciones clav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187280" y="1916280"/>
            <a:ext cx="7704000" cy="4102200"/>
            <a:chOff x="1187280" y="1916280"/>
            <a:chExt cx="7704000" cy="4102200"/>
          </a:xfrm>
        </p:grpSpPr>
        <p:cxnSp>
          <p:nvCxnSpPr>
            <p:cNvPr id="62" name="_s183310"/>
            <p:cNvCxnSpPr>
              <a:stCxn id="63" idx="0"/>
              <a:endCxn id="64" idx="2"/>
            </p:cNvCxnSpPr>
            <p:nvPr/>
          </p:nvCxnSpPr>
          <p:spPr>
            <a:xfrm flipV="1" rot="16200000">
              <a:off x="5977080" y="2618640"/>
              <a:ext cx="821160" cy="2696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83309"/>
            <p:cNvCxnSpPr>
              <a:stCxn id="66" idx="0"/>
              <a:endCxn id="64" idx="2"/>
            </p:cNvCxnSpPr>
            <p:nvPr/>
          </p:nvCxnSpPr>
          <p:spPr>
            <a:xfrm flipH="1" flipV="1" rot="5400000">
              <a:off x="4618080" y="3944880"/>
              <a:ext cx="809280" cy="32760"/>
            </a:xfrm>
            <a:prstGeom prst="bentConnector3">
              <a:avLst>
                <a:gd name="adj1" fmla="val 141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83308"/>
            <p:cNvCxnSpPr>
              <a:stCxn id="68" idx="0"/>
              <a:endCxn id="64" idx="2"/>
            </p:cNvCxnSpPr>
            <p:nvPr/>
          </p:nvCxnSpPr>
          <p:spPr>
            <a:xfrm flipH="1" flipV="1" rot="5400000">
              <a:off x="3286440" y="2612880"/>
              <a:ext cx="809280" cy="2696760"/>
            </a:xfrm>
            <a:prstGeom prst="bentConnector3">
              <a:avLst>
                <a:gd name="adj1" fmla="val 141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183304"/>
            <p:cNvSpPr/>
            <p:nvPr/>
          </p:nvSpPr>
          <p:spPr>
            <a:xfrm>
              <a:off x="3883680" y="1916280"/>
              <a:ext cx="231120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66"/>
                  </a:solidFill>
                  <a:latin typeface="Arial"/>
                </a:rPr>
                <a:t>Erasm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s-ES" sz="2000" spc="-1" strike="noStrike">
                  <a:solidFill>
                    <a:srgbClr val="000066"/>
                  </a:solidFill>
                  <a:latin typeface="Arial"/>
                </a:rPr>
                <a:t>para to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83305"/>
            <p:cNvSpPr/>
            <p:nvPr/>
          </p:nvSpPr>
          <p:spPr>
            <a:xfrm>
              <a:off x="1187280" y="4366080"/>
              <a:ext cx="231120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cción Clav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ovilidad para e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prendizaj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183306"/>
            <p:cNvSpPr/>
            <p:nvPr/>
          </p:nvSpPr>
          <p:spPr>
            <a:xfrm>
              <a:off x="3851280" y="4366080"/>
              <a:ext cx="230868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cción Clave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oper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183307"/>
            <p:cNvSpPr/>
            <p:nvPr/>
          </p:nvSpPr>
          <p:spPr>
            <a:xfrm>
              <a:off x="6580080" y="4377600"/>
              <a:ext cx="231120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cción Clave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eforma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as políti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187280" y="1270080"/>
            <a:ext cx="7703640" cy="4102200"/>
            <a:chOff x="1187280" y="1270080"/>
            <a:chExt cx="7703640" cy="4102200"/>
          </a:xfrm>
        </p:grpSpPr>
        <p:cxnSp>
          <p:nvCxnSpPr>
            <p:cNvPr id="71" name="_s229381"/>
            <p:cNvCxnSpPr>
              <a:stCxn id="72" idx="0"/>
              <a:endCxn id="73" idx="2"/>
            </p:cNvCxnSpPr>
            <p:nvPr/>
          </p:nvCxnSpPr>
          <p:spPr>
            <a:xfrm flipV="1" rot="16200000">
              <a:off x="6126840" y="1820880"/>
              <a:ext cx="821160" cy="299952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229382"/>
            <p:cNvCxnSpPr>
              <a:stCxn id="75" idx="0"/>
              <a:endCxn id="73" idx="2"/>
            </p:cNvCxnSpPr>
            <p:nvPr/>
          </p:nvCxnSpPr>
          <p:spPr>
            <a:xfrm flipV="1" rot="16200000">
              <a:off x="5127840" y="2819880"/>
              <a:ext cx="821160" cy="100152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29383"/>
            <p:cNvCxnSpPr>
              <a:stCxn id="77" idx="0"/>
              <a:endCxn id="73" idx="2"/>
            </p:cNvCxnSpPr>
            <p:nvPr/>
          </p:nvCxnSpPr>
          <p:spPr>
            <a:xfrm flipH="1" flipV="1" rot="5400000">
              <a:off x="4129200" y="2822040"/>
              <a:ext cx="821160" cy="9975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29384"/>
            <p:cNvCxnSpPr>
              <a:stCxn id="79" idx="0"/>
              <a:endCxn id="73" idx="2"/>
            </p:cNvCxnSpPr>
            <p:nvPr/>
          </p:nvCxnSpPr>
          <p:spPr>
            <a:xfrm flipH="1" flipV="1" rot="5400000">
              <a:off x="3131280" y="1824480"/>
              <a:ext cx="821160" cy="2993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229385"/>
            <p:cNvSpPr/>
            <p:nvPr/>
          </p:nvSpPr>
          <p:spPr>
            <a:xfrm>
              <a:off x="4181760" y="1270080"/>
              <a:ext cx="171216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cción clav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Movilidad par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el aprendizaj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_s229386"/>
            <p:cNvSpPr/>
            <p:nvPr/>
          </p:nvSpPr>
          <p:spPr>
            <a:xfrm>
              <a:off x="1187280" y="3731400"/>
              <a:ext cx="171216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Movilidad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d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person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29387"/>
            <p:cNvSpPr/>
            <p:nvPr/>
          </p:nvSpPr>
          <p:spPr>
            <a:xfrm>
              <a:off x="3184920" y="3731400"/>
              <a:ext cx="171216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Movilidad d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estudiant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229388"/>
            <p:cNvSpPr/>
            <p:nvPr/>
          </p:nvSpPr>
          <p:spPr>
            <a:xfrm>
              <a:off x="5182920" y="3731400"/>
              <a:ext cx="171216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66"/>
                  </a:solidFill>
                  <a:latin typeface="Arial"/>
                </a:rPr>
                <a:t>Movilidad en mas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66"/>
                  </a:solidFill>
                  <a:latin typeface="Arial"/>
                </a:rPr>
                <a:t>(Erasmus master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229389"/>
            <p:cNvSpPr/>
            <p:nvPr/>
          </p:nvSpPr>
          <p:spPr>
            <a:xfrm>
              <a:off x="7180560" y="3731400"/>
              <a:ext cx="1710360" cy="164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Movilidad de jóven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46:44Z</dcterms:created>
  <dc:creator>cecilia.baquero</dc:creator>
  <dc:description/>
  <dc:language>en-US</dc:language>
  <cp:lastModifiedBy>maria.marcos</cp:lastModifiedBy>
  <dcterms:modified xsi:type="dcterms:W3CDTF">2012-01-02T12:32:09Z</dcterms:modified>
  <cp:revision>278</cp:revision>
  <dc:subject/>
  <dc:title>Presentación de PowerPoint</dc:title>
</cp:coreProperties>
</file>