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9.wmf" ContentType="image/x-wmf"/>
  <Override PartName="/ppt/media/image18.jpeg" ContentType="image/jpeg"/>
  <Override PartName="/ppt/media/image17.png" ContentType="image/png"/>
  <Override PartName="/ppt/media/image14.jpeg" ContentType="image/jpeg"/>
  <Override PartName="/ppt/media/image16.wmf" ContentType="image/x-wmf"/>
  <Override PartName="/ppt/media/image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F62-CAAC-498D-AD88-441124D5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2D9-64C0-440E-BF23-21201D45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1C6E-BF76-4A47-95D0-F805BACA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72FA-8B20-44B4-BE91-6B3B7EAD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19BF-F74E-45D8-B8B6-0D8A1708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C51E-012F-4001-8173-A73D0A72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1482-BEA5-43BD-964E-CF9B3B05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DE5D-7E0B-48D4-837F-CFCC869C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301C-28EC-4EEA-A710-2B2763FD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4BDC-38E1-4788-83D1-B93279FD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D9E7-7552-4B8B-BBE7-069EE051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828-A151-4DF1-8787-12AB153F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EB5E-0B33-4AA6-BD45-4B336DAD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0E1D-9FE9-428B-AAAA-E351C851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46EB-18BE-4440-8D95-71857DD2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F22C-F144-4ECE-BBA5-BDEE3230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ED12-79F4-44A4-A42E-D7B0F92F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EED-3A71-40B5-8D34-7F825DAF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7987-D212-4D31-8CA0-E52301A7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F46B-0638-4DE6-B1A4-4895214A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026E-9ABA-4D52-837A-AD8117C5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39C9-56AF-43D0-A892-57E1F73A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447-282E-45EE-8DCD-1BD5250A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C3B-9341-4905-8D6E-F2CA0E49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3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169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169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169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6AAE-6534-4A9F-B7AA-B72CAFB31895}" type="datetime"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B572-8998-4EC2-A359-E51489D36606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2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3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169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169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169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B7C9-6AF2-478F-8B6C-FA348D5687AE}" type="datetime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1269-2038-4947-A2A1-4E8C8857E290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4D68-57D9-42EB-805E-D26F1F268E55}" type="slidenum">
              <a:rPr b="0" lang="es-E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salu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Object 4"/>
          <p:cNvGraphicFramePr/>
          <p:nvPr/>
        </p:nvGraphicFramePr>
        <p:xfrm>
          <a:off x="0" y="380880"/>
          <a:ext cx="2693880" cy="838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80880"/>
                    <a:ext cx="269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12"/>
          <p:cNvSpPr/>
          <p:nvPr/>
        </p:nvSpPr>
        <p:spPr>
          <a:xfrm>
            <a:off x="324000" y="1413000"/>
            <a:ext cx="8208720" cy="1068840"/>
          </a:xfrm>
          <a:prstGeom prst="rect">
            <a:avLst/>
          </a:prstGeom>
          <a:solidFill>
            <a:srgbClr val="337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merican Typewriter"/>
              </a:rPr>
              <a:t>El sistema dual en la formaci</a:t>
            </a:r>
            <a:r>
              <a:rPr b="1" lang="es-ES_tradnl" sz="3200" spc="-1" strike="noStrike">
                <a:solidFill>
                  <a:srgbClr val="ffffff"/>
                </a:solidFill>
                <a:latin typeface="American Typewriter"/>
                <a:ea typeface="ＭＳ Ｐゴシック"/>
              </a:rPr>
              <a:t>ón profesional en Alem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0_DIHK Stuttgart_Frädrich_Página_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250920" y="40464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REAS / COMPETENCIAS DE LOS DISTINTO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556000" y="2205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M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268360" y="1125360"/>
            <a:ext cx="38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ONFERENCIA DE MINISTROS DE EDUCACIÓN DE LOS ES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987640" y="3645000"/>
            <a:ext cx="25210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un órgano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vita una evolución divergente entre los sistemas educa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arantiza la permeabilidad entre los diferentes sist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0_DIHK Stuttgart_Frädrich_Página_14"/>
          <p:cNvPicPr/>
          <p:nvPr/>
        </p:nvPicPr>
        <p:blipFill>
          <a:blip r:embed="rId1"/>
          <a:stretch/>
        </p:blipFill>
        <p:spPr>
          <a:xfrm>
            <a:off x="-468360" y="22320"/>
            <a:ext cx="9612360" cy="6835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4000" y="3333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REAS / COMPETENCIAS DE LOS DISTINTO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979640" y="22766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DUSTRIA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979640" y="2924280"/>
            <a:ext cx="3887640" cy="32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mpresas y Sindic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ponen la creación de nuevas  profesiones o la modernización de las exist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ortan técnicos especilizados para la relización de los decretos regul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optan acuerdos y convenios sobre la bonificación de los aprend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0_DIHK Stuttgart_Frädrich_Página_15"/>
          <p:cNvPicPr/>
          <p:nvPr/>
        </p:nvPicPr>
        <p:blipFill>
          <a:blip r:embed="rId1"/>
          <a:stretch/>
        </p:blipFill>
        <p:spPr>
          <a:xfrm>
            <a:off x="-752400" y="-179280"/>
            <a:ext cx="9896400" cy="7037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0" y="0"/>
            <a:ext cx="85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-252360" y="260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REAS / COMPETENCIAS DE LOS DISTINTO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692360" y="20606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DUSTRIA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692360" y="2708280"/>
            <a:ext cx="3384360" cy="42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áma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esoran a los agentes implicados en 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olan la formación en las empre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terminan la idoneidad de las empresas y los form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levan un registro de los contratos de 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alizan los exámenes y expiden las titul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0_DIHK Stuttgart_Frädrich_Página_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059280" y="2060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65 nuevas profesiones desde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492360" y="2852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350 profe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755640" y="3860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d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619280" y="47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me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2987640" y="566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4716360" y="566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stión y 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084720" y="47242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7020000" y="3789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gricultura y jardin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OFESIONES EN EL SISTEMA D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NTRO DE TRABAJO/EMPRESA          CENTRO ESC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18920" y="1981080"/>
            <a:ext cx="5257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5472000" cy="41720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8"/>
          <p:cNvSpPr/>
          <p:nvPr/>
        </p:nvSpPr>
        <p:spPr>
          <a:xfrm>
            <a:off x="241128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95280" y="44560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3440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ENTRO DE TRABAJO/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0_DIHK Stuttgart_Frädrich_Página_03"/>
          <p:cNvPicPr/>
          <p:nvPr/>
        </p:nvPicPr>
        <p:blipFill>
          <a:blip r:embed="rId1"/>
          <a:stretch/>
        </p:blipFill>
        <p:spPr>
          <a:xfrm>
            <a:off x="0" y="981000"/>
            <a:ext cx="8820000" cy="52768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3132000" y="3429000"/>
            <a:ext cx="2737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 ó 4 días a la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bre la base de u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creto regulado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e las profesiones (vincul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 el marco de u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trato de formación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 derecho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6012000" y="5589720"/>
            <a:ext cx="2376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ciben una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onificació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pactada con los sindica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0_DIHK Stuttgart_Frädrich_Página_03"/>
          <p:cNvPicPr/>
          <p:nvPr/>
        </p:nvPicPr>
        <p:blipFill>
          <a:blip r:embed="rId1"/>
          <a:stretch/>
        </p:blipFill>
        <p:spPr>
          <a:xfrm>
            <a:off x="0" y="260280"/>
            <a:ext cx="8820000" cy="6597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0" y="14842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6600"/>
                </a:solidFill>
                <a:latin typeface="Arial"/>
              </a:rPr>
              <a:t>469.000 Empresas Form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774600" y="189000"/>
            <a:ext cx="537156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ccff"/>
                </a:solidFill>
                <a:latin typeface="Arial"/>
              </a:rPr>
              <a:t>Acreditadas</a:t>
            </a:r>
            <a:r>
              <a:rPr b="0" lang="de-DE" sz="18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ccff"/>
                </a:solidFill>
                <a:latin typeface="Arial"/>
              </a:rPr>
              <a:t>por las Cáma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ccff"/>
                </a:solidFill>
                <a:latin typeface="Arial"/>
              </a:rPr>
              <a:t>Instalaciones y materiales adecu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ccff"/>
                </a:solidFill>
                <a:latin typeface="Arial"/>
              </a:rPr>
              <a:t>Proporción : 6/8 trabajadores --- 3 aprend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ccff"/>
                </a:solidFill>
                <a:latin typeface="Arial"/>
              </a:rPr>
              <a:t>Formadores acredi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6804000" y="2492280"/>
            <a:ext cx="20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"/>
              </a:rPr>
              <a:t>P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"/>
              </a:rPr>
              <a:t>Púb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3276720" y="3684600"/>
            <a:ext cx="2232000" cy="33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 no reúne todas las condi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ociaciones de Formació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. Principal / E. Acompañ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r encar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entros supraempresa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98984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ENTRO ESC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0_DIHK Stuttgart_Frädrich_Página_04"/>
          <p:cNvPicPr/>
          <p:nvPr/>
        </p:nvPicPr>
        <p:blipFill>
          <a:blip r:embed="rId1"/>
          <a:stretch/>
        </p:blipFill>
        <p:spPr>
          <a:xfrm>
            <a:off x="468360" y="836640"/>
            <a:ext cx="8675640" cy="58356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4067280" y="4005360"/>
            <a:ext cx="216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orta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mpetencias profesionales y de educ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971640" y="1197000"/>
            <a:ext cx="74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68360" y="981000"/>
            <a:ext cx="50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Currículos marco               KMK  (Ministe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Planes de estudio            Estados Fed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2556000" y="1197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2484360" y="1700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6156360" y="836640"/>
            <a:ext cx="25923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78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7899"/>
                </a:solidFill>
                <a:latin typeface="Arial"/>
              </a:rPr>
              <a:t>1 ó 2 días por sem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78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7899"/>
                </a:solidFill>
                <a:latin typeface="Arial"/>
              </a:rPr>
              <a:t>no menos de 12 horas sema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7308720" y="2349360"/>
            <a:ext cx="18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78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7899"/>
                </a:solidFill>
                <a:latin typeface="Arial"/>
              </a:rPr>
              <a:t>8 h./ 4 h. asignaturas relacionadas con la profesión/gen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2699280" y="0"/>
            <a:ext cx="40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ENTRO ESC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950760" y="1144440"/>
            <a:ext cx="354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95280" y="981000"/>
            <a:ext cx="388944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64c08"/>
                </a:solidFill>
                <a:latin typeface="Arial"/>
              </a:rPr>
              <a:t>Se dividen</a:t>
            </a:r>
            <a:r>
              <a:rPr b="1" lang="de-DE" sz="3200" spc="-1" strike="noStrike">
                <a:solidFill>
                  <a:srgbClr val="f64c08"/>
                </a:solidFill>
                <a:latin typeface="Arial"/>
              </a:rPr>
              <a:t> , según profesiones, </a:t>
            </a:r>
            <a:r>
              <a:rPr b="0" lang="de-DE" sz="3200" spc="-1" strike="noStrike">
                <a:solidFill>
                  <a:srgbClr val="f64c08"/>
                </a:solidFill>
                <a:latin typeface="Arial"/>
              </a:rPr>
              <a:t>en</a:t>
            </a:r>
            <a:r>
              <a:rPr b="1" lang="de-DE" sz="3200" spc="-1" strike="noStrike">
                <a:solidFill>
                  <a:srgbClr val="f64c08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64c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64c08"/>
                </a:solidFill>
                <a:latin typeface="Arial"/>
              </a:rPr>
              <a:t>Téc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64c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64c08"/>
                </a:solidFill>
                <a:latin typeface="Arial"/>
              </a:rPr>
              <a:t>Comer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64c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64c08"/>
                </a:solidFill>
                <a:latin typeface="Arial"/>
              </a:rPr>
              <a:t>Administr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64c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64c08"/>
                </a:solidFill>
                <a:latin typeface="Arial"/>
              </a:rPr>
              <a:t>Profesiones sociales /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64c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64c08"/>
                </a:solidFill>
                <a:latin typeface="Arial"/>
              </a:rPr>
              <a:t>Agr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003640" y="1268280"/>
            <a:ext cx="3673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Se dividen, </a:t>
            </a: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según nivel de estudios</a:t>
            </a: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,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Básicos (1er. añ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Especializados (2º y 3er añ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2699280" y="0"/>
            <a:ext cx="31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SIGNA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50760" y="1144440"/>
            <a:ext cx="354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755640" y="1052640"/>
            <a:ext cx="77058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nerales: deporte, lengua, ciencias sociales..... (4 horas seman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eoricas realacionadas con la profesión: cálculo, dibujo técnico....(8 horas seman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64c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GRAN IMPORTANCIA EN UNA LENGUA EXTRANJERA (INGLÉ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68000" y="1196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 FP, una „tradición“ en Alem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5280" y="1413000"/>
          <a:ext cx="4103640" cy="3255840"/>
        </p:xfrm>
        <a:graphic>
          <a:graphicData uri="http://schemas.openxmlformats.org/drawingml/2006/table">
            <a:tbl>
              <a:tblPr/>
              <a:tblGrid>
                <a:gridCol w="952560"/>
                <a:gridCol w="315108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S.XI</a:t>
                      </a:r>
                      <a:r>
                        <a:rPr b="1" lang="es-E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Formación Profesional en los centros de trabaj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XV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amiento de aprox. 200 profes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XV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eras escuelas profesiona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X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d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y de 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2" name="4 Imagen" descr="intro_handwerk_steinmetz.jpg"/>
          <p:cNvPicPr/>
          <p:nvPr/>
        </p:nvPicPr>
        <p:blipFill>
          <a:blip r:embed="rId1"/>
          <a:stretch/>
        </p:blipFill>
        <p:spPr>
          <a:xfrm>
            <a:off x="6588000" y="1557360"/>
            <a:ext cx="1743120" cy="2028960"/>
          </a:xfrm>
          <a:prstGeom prst="rect">
            <a:avLst/>
          </a:prstGeom>
          <a:ln w="0">
            <a:noFill/>
          </a:ln>
        </p:spPr>
      </p:pic>
      <p:pic>
        <p:nvPicPr>
          <p:cNvPr id="93" name="5 Imagen" descr="BB SXIX.jpg"/>
          <p:cNvPicPr/>
          <p:nvPr/>
        </p:nvPicPr>
        <p:blipFill>
          <a:blip r:embed="rId2"/>
          <a:stretch/>
        </p:blipFill>
        <p:spPr>
          <a:xfrm>
            <a:off x="3708360" y="3716280"/>
            <a:ext cx="400536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FESO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CuadroTexto"/>
          <p:cNvSpPr/>
          <p:nvPr/>
        </p:nvSpPr>
        <p:spPr>
          <a:xfrm>
            <a:off x="755640" y="213372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De asignaturas generales o teóricas relacionadas con la profes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 misma formación y titulación que el resto de profesores de secund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licenciatura, periodo de prácticas…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De práctica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in titulación universitaria. Suelen ser profesionales con el grado de maestro de taller (Mei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0_DIHK Stuttgart_Frädrich_Página_16"/>
          <p:cNvPicPr/>
          <p:nvPr/>
        </p:nvPicPr>
        <p:blipFill>
          <a:blip r:embed="rId1"/>
          <a:stretch/>
        </p:blipFill>
        <p:spPr>
          <a:xfrm>
            <a:off x="-2916360" y="-1684440"/>
            <a:ext cx="14760720" cy="102268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0" y="4076640"/>
            <a:ext cx="25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lbertus Extra Bold"/>
              </a:rPr>
              <a:t>CENTRO ESC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6516720" y="4149720"/>
            <a:ext cx="30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lbertus Extra Bold"/>
              </a:rPr>
              <a:t>CENTRO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3419640" y="836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lbertus Extra Bold"/>
              </a:rPr>
              <a:t>CÁM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3348000" y="630864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ff"/>
                </a:solidFill>
                <a:latin typeface="Arial"/>
              </a:rPr>
              <a:t>colabo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-541440" y="213372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ff"/>
                </a:solidFill>
                <a:latin typeface="Arial"/>
              </a:rPr>
              <a:t>asesor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6877080" y="198900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LAB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 CuadroTexto"/>
          <p:cNvSpPr/>
          <p:nvPr/>
        </p:nvSpPr>
        <p:spPr>
          <a:xfrm>
            <a:off x="826920" y="1268280"/>
            <a:ext cx="7705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Horari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: pactados entre la empresa, la escuela, la inspeccion educativa y la cám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profesores hacen con frecuencia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prác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 las emp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centros suelen organizar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actividades y seminarios de actualiz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ara los formadores y otros trabajadores de las empre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556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sistema d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971640" y="774720"/>
          <a:ext cx="7007040" cy="552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774720"/>
                    <a:ext cx="700704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mbria"/>
              </a:rPr>
              <a:t>Financiación de la formación profe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Diagramm 6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7205760" cy="4267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4572000" y="285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250920" y="2781360"/>
            <a:ext cx="14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GENCIA FEDERAL DE 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1979640" y="177336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1619280" y="198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STADOS FED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mbria"/>
              </a:rPr>
              <a:t>Beneficios de la formación profesional para la </a:t>
            </a:r>
            <a:r>
              <a:rPr b="1" lang="es-ES_tradnl" sz="4400" spc="-1" strike="noStrike">
                <a:solidFill>
                  <a:srgbClr val="172560"/>
                </a:solidFill>
                <a:latin typeface="Cambria"/>
              </a:rPr>
              <a:t>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egurar mano de obra cualific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ajos costes de contra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luencia sobre el </a:t>
            </a:r>
            <a:r>
              <a:rPr b="0" lang="es-ES_tradnl" sz="3200" spc="-1" strike="noStrike">
                <a:solidFill>
                  <a:srgbClr val="321863"/>
                </a:solidFill>
                <a:latin typeface="Arial"/>
              </a:rPr>
              <a:t>contenid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0" lang="es-ES_tradnl" sz="3200" spc="-1" strike="noStrike">
                <a:solidFill>
                  <a:srgbClr val="321863"/>
                </a:solidFill>
                <a:latin typeface="Arial"/>
              </a:rPr>
              <a:t>organiz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la formación según las necesidades del </a:t>
            </a:r>
            <a:r>
              <a:rPr b="1" lang="es-ES_tradnl" sz="3200" spc="-1" strike="noStrike">
                <a:solidFill>
                  <a:srgbClr val="321863"/>
                </a:solidFill>
                <a:latin typeface="Arial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mbria"/>
              </a:rPr>
              <a:t>Beneficios de la formación profesional para los</a:t>
            </a:r>
            <a:r>
              <a:rPr b="0" lang="es-ES_tradnl" sz="4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s-ES_tradnl" sz="4400" spc="-1" strike="noStrike">
                <a:solidFill>
                  <a:srgbClr val="172560"/>
                </a:solidFill>
                <a:latin typeface="Cambria"/>
              </a:rPr>
              <a:t>aprend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cilidad para la </a:t>
            </a:r>
            <a:r>
              <a:rPr b="1" lang="es-ES_tradnl" sz="3200" spc="-1" strike="noStrike">
                <a:solidFill>
                  <a:srgbClr val="321863"/>
                </a:solidFill>
                <a:latin typeface="Arial"/>
              </a:rPr>
              <a:t>incorpor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al mundo del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rmación en el </a:t>
            </a:r>
            <a:r>
              <a:rPr b="1" lang="es-ES_tradnl" sz="3200" spc="-1" strike="noStrike">
                <a:solidFill>
                  <a:srgbClr val="321863"/>
                </a:solidFill>
                <a:latin typeface="Arial"/>
              </a:rPr>
              <a:t>mercado laboral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21863"/>
                </a:solidFill>
                <a:latin typeface="Arial"/>
              </a:rPr>
              <a:t>Estándares uniform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cualif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ón motiv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321863"/>
                </a:solidFill>
                <a:latin typeface="Arial"/>
              </a:rPr>
              <a:t>ganan un sueldo/bonificación y reciben una formación (entre 270€ y 830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mbria"/>
              </a:rPr>
              <a:t>Beneficios de la formación profesional para el</a:t>
            </a:r>
            <a:r>
              <a:rPr b="0" lang="es-ES_tradnl" sz="4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s-ES_tradnl" sz="4400" spc="-1" strike="noStrike">
                <a:solidFill>
                  <a:srgbClr val="172560"/>
                </a:solidFill>
                <a:latin typeface="Cambria"/>
              </a:rPr>
              <a:t>es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Posibilidad de ofrecer FP </a:t>
            </a:r>
            <a:r>
              <a:rPr b="1" lang="es-ES_tradnl" sz="3200" spc="-1" strike="noStrike">
                <a:solidFill>
                  <a:srgbClr val="321863"/>
                </a:solidFill>
                <a:latin typeface="Cambria"/>
              </a:rPr>
              <a:t>a todos los jóvenes</a:t>
            </a: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 que salen de la educació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La contribución del </a:t>
            </a:r>
            <a:r>
              <a:rPr b="1" lang="es-ES_tradnl" sz="3200" spc="-1" strike="noStrike">
                <a:solidFill>
                  <a:srgbClr val="321863"/>
                </a:solidFill>
                <a:latin typeface="Cambria"/>
              </a:rPr>
              <a:t>sector privado</a:t>
            </a: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 / menor presión </a:t>
            </a:r>
            <a:r>
              <a:rPr b="1" lang="es-ES_tradnl" sz="3200" spc="-1" strike="noStrike">
                <a:solidFill>
                  <a:srgbClr val="321863"/>
                </a:solidFill>
                <a:latin typeface="Cambria"/>
              </a:rPr>
              <a:t>presupuesto púb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21863"/>
                </a:solidFill>
                <a:latin typeface="Cambria"/>
              </a:rPr>
              <a:t>Estándares competitivos</a:t>
            </a: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 de formación para todo el es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52b63"/>
                </a:solidFill>
                <a:latin typeface="Cambria"/>
              </a:rPr>
              <a:t>Pilares del sis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mbria"/>
              </a:rPr>
              <a:t>Importancia y efectividad de la responsabilidad de los </a:t>
            </a:r>
            <a:r>
              <a:rPr b="1" lang="es-ES_tradnl" sz="2800" spc="-1" strike="noStrike">
                <a:solidFill>
                  <a:srgbClr val="252b63"/>
                </a:solidFill>
                <a:latin typeface="Cambria"/>
              </a:rPr>
              <a:t>actores económicos y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52b63"/>
                </a:solidFill>
                <a:latin typeface="Cambria"/>
              </a:rPr>
              <a:t>Financiación</a:t>
            </a:r>
            <a:r>
              <a:rPr b="1" lang="es-ES_tradnl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52b63"/>
                </a:solidFill>
                <a:latin typeface="Cambria"/>
              </a:rPr>
              <a:t>Pilotaje</a:t>
            </a:r>
            <a:r>
              <a:rPr b="0" lang="es-ES_tradnl" sz="2800" spc="-1" strike="noStrike">
                <a:solidFill>
                  <a:srgbClr val="000000"/>
                </a:solidFill>
                <a:latin typeface="Cambria"/>
              </a:rPr>
              <a:t> global de los podere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mbria"/>
              </a:rPr>
              <a:t>Iniciativa de los </a:t>
            </a:r>
            <a:r>
              <a:rPr b="1" lang="es-ES_tradnl" sz="2800" spc="-1" strike="noStrike">
                <a:solidFill>
                  <a:srgbClr val="252b63"/>
                </a:solidFill>
                <a:latin typeface="Cambria"/>
              </a:rPr>
              <a:t>actores económicos y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mbria"/>
              </a:rPr>
              <a:t>Papel mediador de las </a:t>
            </a:r>
            <a:r>
              <a:rPr b="1" lang="es-ES_tradnl" sz="2800" spc="-1" strike="noStrike">
                <a:solidFill>
                  <a:srgbClr val="252b63"/>
                </a:solidFill>
                <a:latin typeface="Cambria"/>
              </a:rPr>
              <a:t>cámaras</a:t>
            </a:r>
            <a:r>
              <a:rPr b="0" lang="es-ES_tradnl" sz="2800" spc="-1" strike="noStrike">
                <a:solidFill>
                  <a:srgbClr val="000000"/>
                </a:solidFill>
                <a:latin typeface="Cambria"/>
              </a:rPr>
              <a:t> de industria, comercio y of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52b63"/>
                </a:solidFill>
                <a:latin typeface="Cambria"/>
              </a:rPr>
              <a:t>Sombras del sistema</a:t>
            </a:r>
            <a:br>
              <a:rPr sz="4400"/>
            </a:br>
            <a:r>
              <a:rPr b="0" lang="es-ES_tradnl" sz="2000" spc="-1" strike="noStrike">
                <a:solidFill>
                  <a:srgbClr val="252b63"/>
                </a:solidFill>
                <a:latin typeface="Cambria"/>
              </a:rPr>
              <a:t>(Informe 2012 de los sindica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alta de cumplimiento de los planes de formación (3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oras extras no remuneradas (38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lizacion de funciones y tareas ajenas a la formación (3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alta de formadores dentro de las empresas (2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La FP dentro del sistema educ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1557360"/>
          <a:ext cx="8280360" cy="4896000"/>
        </p:xfrm>
        <a:graphic>
          <a:graphicData uri="http://schemas.openxmlformats.org/drawingml/2006/table">
            <a:tbl>
              <a:tblPr/>
              <a:tblGrid>
                <a:gridCol w="2070000"/>
                <a:gridCol w="2071800"/>
                <a:gridCol w="2068560"/>
                <a:gridCol w="2070000"/>
              </a:tblGrid>
              <a:tr h="950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ormación Profesional Contin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ivel terciario</a:t>
                      </a: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 partir de 19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c98"/>
                    </a:solidFill>
                  </a:tcPr>
                </a:tc>
              </a:tr>
              <a:tr h="92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ercado labo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nivers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Sistema dual de F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(51%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4c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FP esco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(12%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4c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ecundaria super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37%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ecundaria super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5 a 18/19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c98"/>
                    </a:solidFill>
                  </a:tcPr>
                </a:tc>
              </a:tr>
              <a:tr h="1043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ecundaria de 1er gr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scuela Inter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ecundaria de 1er gr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Gymnas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ecundaria 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e 10/12 a 15/16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c98"/>
                    </a:solidFill>
                  </a:tcPr>
                </a:tc>
              </a:tr>
              <a:tr h="789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im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ima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e 6 a 10/12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c9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4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atisfaccion con el centro esco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3 Marcador de contenido" descr="Páginas de Ausbildungsreport-2012.jpg"/>
          <p:cNvPicPr/>
          <p:nvPr/>
        </p:nvPicPr>
        <p:blipFill>
          <a:blip r:embed="rId1"/>
          <a:stretch/>
        </p:blipFill>
        <p:spPr>
          <a:xfrm>
            <a:off x="468360" y="1341360"/>
            <a:ext cx="8244000" cy="4464000"/>
          </a:xfrm>
          <a:prstGeom prst="rect">
            <a:avLst/>
          </a:prstGeom>
          <a:ln w="0">
            <a:noFill/>
          </a:ln>
        </p:spPr>
      </p:pic>
      <p:sp>
        <p:nvSpPr>
          <p:cNvPr id="219" name="4 CuadroTexto"/>
          <p:cNvSpPr/>
          <p:nvPr/>
        </p:nvSpPr>
        <p:spPr>
          <a:xfrm>
            <a:off x="2484360" y="2133720"/>
            <a:ext cx="9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5 CuadroTexto"/>
          <p:cNvSpPr/>
          <p:nvPr/>
        </p:nvSpPr>
        <p:spPr>
          <a:xfrm>
            <a:off x="324000" y="5013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y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6 CuadroTexto"/>
          <p:cNvSpPr/>
          <p:nvPr/>
        </p:nvSpPr>
        <p:spPr>
          <a:xfrm>
            <a:off x="5435640" y="2421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7 CuadroTexto"/>
          <p:cNvSpPr/>
          <p:nvPr/>
        </p:nvSpPr>
        <p:spPr>
          <a:xfrm>
            <a:off x="7093080" y="4221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8 CuadroTexto"/>
          <p:cNvSpPr/>
          <p:nvPr/>
        </p:nvSpPr>
        <p:spPr>
          <a:xfrm>
            <a:off x="7524720" y="52293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4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1"/>
          <p:cNvGraphicFramePr/>
          <p:nvPr/>
        </p:nvGraphicFramePr>
        <p:xfrm>
          <a:off x="1214280" y="928800"/>
          <a:ext cx="98136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928800"/>
                    <a:ext cx="9813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3"/>
          <p:cNvSpPr/>
          <p:nvPr/>
        </p:nvSpPr>
        <p:spPr>
          <a:xfrm>
            <a:off x="1143000" y="2904480"/>
            <a:ext cx="8001000" cy="17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                       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Helvetica Condensed"/>
                <a:ea typeface="Times New Roman"/>
              </a:rPr>
              <a:t>MINISTERIO DE EDUC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Helvetica Condensed"/>
                <a:ea typeface="Times New Roman"/>
              </a:rPr>
              <a:t>Consejer</a:t>
            </a:r>
            <a:r>
              <a:rPr b="0" lang="es-ES" sz="1100" spc="-1" strike="noStrike">
                <a:solidFill>
                  <a:srgbClr val="000000"/>
                </a:solidFill>
                <a:latin typeface="Helvetica Condensed"/>
                <a:ea typeface="ＭＳ Ｐゴシック"/>
              </a:rPr>
              <a:t>ía de Educación en Aleman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Helvetica Condense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Helvetica Condense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Helvetica Condense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Helvetica Condensed"/>
                <a:ea typeface="Times New Roman"/>
              </a:rPr>
              <a:t>Diciembre de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84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64c08"/>
                </a:solidFill>
                <a:latin typeface="Arial"/>
                <a:ea typeface="Arial"/>
              </a:rPr>
              <a:t>¿Por qué FP „dual“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s conocimientos y destrezas necesarias para el ejercicio de una profesión se adquieren 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os lugares de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64c08"/>
                </a:solidFill>
                <a:latin typeface="Arial"/>
                <a:ea typeface="Arial"/>
              </a:rPr>
              <a:t>Requisitos de ac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aber concluído el periodo d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scolaridad obligatori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único requisito en teorí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s aprendices son seleccionados por las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mpres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formad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64c08"/>
                </a:solidFill>
                <a:latin typeface="Arial"/>
                <a:ea typeface="Arial"/>
              </a:rPr>
              <a:t>Duració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abitualment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64c08"/>
                </a:solidFill>
                <a:latin typeface="Arial"/>
                <a:ea typeface="Arial"/>
              </a:rPr>
              <a:t>Tit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apacita para el ejercicio profesional como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écnico especi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REACIÓN DE NUEVAS PROFE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_DIHK Stuttgart_Frädrich_Página_11"/>
          <p:cNvPicPr/>
          <p:nvPr/>
        </p:nvPicPr>
        <p:blipFill>
          <a:blip r:embed="rId1"/>
          <a:stretch/>
        </p:blipFill>
        <p:spPr>
          <a:xfrm>
            <a:off x="826920" y="1341360"/>
            <a:ext cx="7920360" cy="4870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3851280" y="335772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cretos regul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635280" y="4149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es de estudio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348000" y="220500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348000" y="213372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obiern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219640" y="2421000"/>
            <a:ext cx="3527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sterio Federal de Indust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sterio Federal de Edu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84360" y="1484280"/>
            <a:ext cx="20160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sens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y de la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1332000" y="3716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d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1258920" y="4149720"/>
            <a:ext cx="151272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ámar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sociaciones empresar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sociaciones profes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276720" y="5334120"/>
            <a:ext cx="273672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6 Estados Fed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ferencia de Ministros de Educación de los Estados (KM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6227640" y="37162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ndic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6588000" y="4869000"/>
            <a:ext cx="17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tituto Federal de la FP (Bi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52b63"/>
                </a:solidFill>
                <a:latin typeface="Cambria"/>
              </a:rPr>
              <a:t>Ley de formación profe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Derechos y deberes de los </a:t>
            </a:r>
            <a:r>
              <a:rPr b="1" lang="es-ES_tradnl" sz="3200" spc="-1" strike="noStrike">
                <a:solidFill>
                  <a:srgbClr val="252b63"/>
                </a:solidFill>
                <a:latin typeface="Cambria"/>
              </a:rPr>
              <a:t>actores so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Regulación de la </a:t>
            </a:r>
            <a:r>
              <a:rPr b="1" lang="es-ES_tradnl" sz="3200" spc="-1" strike="noStrike">
                <a:solidFill>
                  <a:srgbClr val="252b63"/>
                </a:solidFill>
                <a:latin typeface="Cambria"/>
              </a:rPr>
              <a:t>fina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Investigación, mejora y desarrollo de </a:t>
            </a:r>
            <a:r>
              <a:rPr b="1" lang="es-ES_tradnl" sz="3200" spc="-1" strike="noStrike">
                <a:solidFill>
                  <a:srgbClr val="252b63"/>
                </a:solidFill>
                <a:latin typeface="Cambria"/>
              </a:rPr>
              <a:t>progr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Infraestructura organizativa a través de </a:t>
            </a:r>
            <a:r>
              <a:rPr b="1" lang="es-ES_tradnl" sz="3200" spc="-1" strike="noStrike">
                <a:solidFill>
                  <a:srgbClr val="252b63"/>
                </a:solidFill>
                <a:latin typeface="Cambria"/>
              </a:rPr>
              <a:t>las cáma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Elementos fundamentales del </a:t>
            </a:r>
            <a:r>
              <a:rPr b="1" lang="es-ES_tradnl" sz="3200" spc="-1" strike="noStrike">
                <a:solidFill>
                  <a:srgbClr val="252b63"/>
                </a:solidFill>
                <a:latin typeface="Cambria"/>
              </a:rPr>
              <a:t>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Regulación del Instituto Federal de FP (</a:t>
            </a:r>
            <a:r>
              <a:rPr b="1" lang="es-ES_tradnl" sz="3200" spc="-1" strike="noStrike">
                <a:solidFill>
                  <a:srgbClr val="252b63"/>
                </a:solidFill>
                <a:latin typeface="Cambria"/>
              </a:rPr>
              <a:t>BIBB</a:t>
            </a: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AREAS / COMPETENCIAS DE LOS DISTINTOS A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0_DIHK Stuttgart_Frädrich_Página_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2340000" y="198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D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843280" y="3500280"/>
            <a:ext cx="36734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licación de la ley de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etencia sobre el Instituto Federal de FP (Bi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oyo a proyectos experimentales y de investi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creta la creacon de nuevos títulos profe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24000" y="3333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REAS / COMPETENCIAS DE LOS DISTINTO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0_DIHK Stuttgart_Frädrich_Página_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REAS / COMPETENCIAS DE LOS DISTINTO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340000" y="1989000"/>
            <a:ext cx="2303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STITUTO FEDERAL DE F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556000" y="1052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i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059280" y="3357720"/>
            <a:ext cx="352872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uesto por representantes empresariales y sindicales, a nivel federal y de los es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esora al Ministerio en cuestiones de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visa los decretos reguldores de los nuevos títulos profesionales elaborados por los es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0_DIHK Stuttgart_Frädrich_Página_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68360" y="260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24000" y="3333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REAS / COMPETENCIAS DE LOS DISTINTO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484360" y="227664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6 ES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059280" y="3645000"/>
            <a:ext cx="2449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lanes de estudio para los centros escolares de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anciación del profesorado (los municipios aportan edificios y mobili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ol de las Cáma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9:49:39Z</dcterms:created>
  <dc:creator>MAR</dc:creator>
  <dc:description/>
  <dc:language>en-US</dc:language>
  <cp:lastModifiedBy>Gracia</cp:lastModifiedBy>
  <dcterms:modified xsi:type="dcterms:W3CDTF">2012-12-09T17:56:29Z</dcterms:modified>
  <cp:revision>742</cp:revision>
  <dc:subject/>
  <dc:title>LA SALUD EN ESPAÑA</dc:title>
</cp:coreProperties>
</file>