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E00EF2-C35A-45B5-9179-ACA3AEC7E0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19FA31-1339-4CAB-AD70-AA7329C50F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A781A6-8EF1-4D0F-8405-D62C86B133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t is important to revise your NA web-s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tion depending on the Agency, we gather all the experts in a hotel for one week, we train them  and assis them during the whole procedure, other agencies do the evaluation on line and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bility the Leonardo committee approves the final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tnerships there is a process of 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I  a list of possible selected proposals is sent to the Commision, once the commisssion acepts we communicate to the benefici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CB82EC-06AA-4AFA-828B-FF6CA083E7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st october in some countries is from the first of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0EF59B-240C-4059-A686-5674F9E100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3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1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5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3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1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" name="Picture 3" descr="OAPEE"/>
          <p:cNvPicPr/>
          <p:nvPr/>
        </p:nvPicPr>
        <p:blipFill>
          <a:blip r:embed="rId5"/>
          <a:stretch/>
        </p:blipFill>
        <p:spPr>
          <a:xfrm>
            <a:off x="6172200" y="6324480"/>
            <a:ext cx="121932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1403280" y="6165720"/>
            <a:ext cx="180036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3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4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5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6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7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8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9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0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360" y="1773360"/>
            <a:ext cx="7005600" cy="23572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VI JORNADA DE PROMOTO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 Narrow"/>
              </a:rPr>
              <a:t>GRUPO DE TRABAJO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cc"/>
                </a:solidFill>
                <a:latin typeface="Arial Narrow"/>
              </a:rPr>
              <a:t>                               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               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Madrid, 12 de diciembre de 2012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Desaparecen las prioridades Nacionales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para nuevos solicitantes (30)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(100) para cualquier proyecto (a excepción de los que están certificad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1592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n las tablas de manutención, costes de OM y Preparación de la Convocatoria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del 30% del porcentaje total de la financiación para proyectos IV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el 40% del total de la financiación para proyectos con certificado de calidad Leonardo da Vinc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Transferencia de Innovación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Prioridad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1592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esarrollo y transferencia de estrategias de movilidad en la EFP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saparece prioridad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strategias para reducir el abandono escolar prematuro en la EPF inicial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Nueva prioridad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quilibrio de prioridad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Si se trata de solicitudes de subvención superiores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750.000 €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deberán presentar, además, un informe de auditoría externa realizado por un auditor autorizado certificando las cuentas del último ejercicio económico disponible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sociaciones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n una misma Asociación Leonardo da Vinci podrán participar como máxim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instituciones españolas (dos socios o un coordinador y un socio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 incrementa el importe máximo de la subvención de las movilidade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Diagrama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7172280"/>
          </a:xfrm>
          <a:prstGeom prst="rect">
            <a:avLst/>
          </a:prstGeom>
          <a:ln w="0">
            <a:noFill/>
          </a:ln>
        </p:spPr>
      </p:pic>
      <p:sp>
        <p:nvSpPr>
          <p:cNvPr id="87" name="2 Rectángulo"/>
          <p:cNvSpPr/>
          <p:nvPr/>
        </p:nvSpPr>
        <p:spPr>
          <a:xfrm>
            <a:off x="1116000" y="0"/>
            <a:ext cx="8028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-360"/>
            <a:ext cx="8075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4 Rectángulo"/>
          <p:cNvSpPr/>
          <p:nvPr/>
        </p:nvSpPr>
        <p:spPr>
          <a:xfrm>
            <a:off x="1042920" y="907920"/>
            <a:ext cx="2016360" cy="100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TOI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0" name="10 Rectángulo"/>
          <p:cNvSpPr/>
          <p:nvPr/>
        </p:nvSpPr>
        <p:spPr>
          <a:xfrm>
            <a:off x="5003640" y="692280"/>
            <a:ext cx="3816360" cy="151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31 enero 2013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1" name="11 Flecha derecha"/>
          <p:cNvSpPr/>
          <p:nvPr/>
        </p:nvSpPr>
        <p:spPr>
          <a:xfrm>
            <a:off x="3203640" y="1125360"/>
            <a:ext cx="1297080" cy="648000"/>
          </a:xfrm>
          <a:prstGeom prst="rightArrow">
            <a:avLst>
              <a:gd name="adj1" fmla="val 50000"/>
              <a:gd name="adj2" fmla="val 38921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13 Rectángulo"/>
          <p:cNvSpPr/>
          <p:nvPr/>
        </p:nvSpPr>
        <p:spPr>
          <a:xfrm>
            <a:off x="1187280" y="314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3" name="14 Rectángulo"/>
          <p:cNvSpPr/>
          <p:nvPr/>
        </p:nvSpPr>
        <p:spPr>
          <a:xfrm>
            <a:off x="1116000" y="2852640"/>
            <a:ext cx="2087640" cy="100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lbertus Extra Bold"/>
              </a:rPr>
              <a:t>MOVILIDAD</a:t>
            </a:r>
            <a:endParaRPr b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4" name="16 Flecha derecha"/>
          <p:cNvSpPr/>
          <p:nvPr/>
        </p:nvSpPr>
        <p:spPr>
          <a:xfrm>
            <a:off x="3203640" y="2781360"/>
            <a:ext cx="1512720" cy="863640"/>
          </a:xfrm>
          <a:prstGeom prst="rightArrow">
            <a:avLst>
              <a:gd name="adj1" fmla="val 100000"/>
              <a:gd name="adj2" fmla="val 500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19 Flecha derecha"/>
          <p:cNvSpPr/>
          <p:nvPr/>
        </p:nvSpPr>
        <p:spPr>
          <a:xfrm>
            <a:off x="3348000" y="2924280"/>
            <a:ext cx="1295280" cy="649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20 Rectángulo"/>
          <p:cNvSpPr/>
          <p:nvPr/>
        </p:nvSpPr>
        <p:spPr>
          <a:xfrm>
            <a:off x="1258920" y="4869000"/>
            <a:ext cx="16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7" name="21 Rectángulo"/>
          <p:cNvSpPr/>
          <p:nvPr/>
        </p:nvSpPr>
        <p:spPr>
          <a:xfrm>
            <a:off x="1042920" y="4724280"/>
            <a:ext cx="2233800" cy="914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lbertus Extra Bold"/>
              </a:rPr>
              <a:t>ASOCIACIONES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22 Flecha derecha"/>
          <p:cNvSpPr/>
          <p:nvPr/>
        </p:nvSpPr>
        <p:spPr>
          <a:xfrm>
            <a:off x="3635280" y="4869000"/>
            <a:ext cx="979560" cy="772920"/>
          </a:xfrm>
          <a:prstGeom prst="rightArrow">
            <a:avLst>
              <a:gd name="adj1" fmla="val 50000"/>
              <a:gd name="adj2" fmla="val 50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9" name="23 Rectángulo"/>
          <p:cNvSpPr/>
          <p:nvPr/>
        </p:nvSpPr>
        <p:spPr>
          <a:xfrm>
            <a:off x="5867280" y="30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0" name="24 Rectángulo"/>
          <p:cNvSpPr/>
          <p:nvPr/>
        </p:nvSpPr>
        <p:spPr>
          <a:xfrm>
            <a:off x="5003640" y="2708280"/>
            <a:ext cx="3816360" cy="158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1 febrero 2013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25 Flecha derecha"/>
          <p:cNvSpPr/>
          <p:nvPr/>
        </p:nvSpPr>
        <p:spPr>
          <a:xfrm>
            <a:off x="3564000" y="4869000"/>
            <a:ext cx="1152360" cy="6476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2" name="26 Flecha derecha"/>
          <p:cNvSpPr/>
          <p:nvPr/>
        </p:nvSpPr>
        <p:spPr>
          <a:xfrm>
            <a:off x="4140360" y="5084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3" name="27 Rectángulo"/>
          <p:cNvSpPr/>
          <p:nvPr/>
        </p:nvSpPr>
        <p:spPr>
          <a:xfrm>
            <a:off x="5076720" y="4581360"/>
            <a:ext cx="3743280" cy="1368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21 febrero 2013 Envío a cad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20 Flecha derecha"/>
          <p:cNvSpPr/>
          <p:nvPr/>
        </p:nvSpPr>
        <p:spPr>
          <a:xfrm>
            <a:off x="37800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VOCATORIA DE PROPUESTAS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20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SPUÉS DE LA PRESENTACIÓ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12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URACIÓN DE LOS CONTRATO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109" name="5 Conector recto"/>
          <p:cNvSpPr/>
          <p:nvPr/>
        </p:nvSpPr>
        <p:spPr>
          <a:xfrm>
            <a:off x="826920" y="1268280"/>
            <a:ext cx="741708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Muchas gracias por su atenció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rograma Sectorial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4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tiv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onvocatoria europea y naciona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Guía del PA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. Disposiciones gener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a. Subprogramas y accion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b. Ficha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00000" y="210960"/>
            <a:ext cx="8244000" cy="6647040"/>
            <a:chOff x="900000" y="210960"/>
            <a:chExt cx="8244000" cy="6647040"/>
          </a:xfrm>
        </p:grpSpPr>
        <p:pic>
          <p:nvPicPr>
            <p:cNvPr id="55" name="Rectangle 2" descr=""/>
            <p:cNvPicPr/>
            <p:nvPr/>
          </p:nvPicPr>
          <p:blipFill>
            <a:blip r:embed="rId1"/>
            <a:stretch/>
          </p:blipFill>
          <p:spPr>
            <a:xfrm>
              <a:off x="900000" y="210960"/>
              <a:ext cx="8244000" cy="66470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56" name=""/>
            <p:cNvSpPr txBox="1"/>
            <p:nvPr/>
          </p:nvSpPr>
          <p:spPr>
            <a:xfrm>
              <a:off x="900000" y="210960"/>
              <a:ext cx="8244000" cy="664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76360" y="2781360"/>
            <a:ext cx="792000" cy="341280"/>
          </a:xfrm>
          <a:prstGeom prst="rightArrow">
            <a:avLst>
              <a:gd name="adj1" fmla="val 50000"/>
              <a:gd name="adj2" fmla="val 5801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s administrativas y prioridades naciona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ANEXO IX DE LA CONVOCATORI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oapee.e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dctm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eboapee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convocatoria/2013/convocatoria-nacional-2013/documentos-limpios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nexoixnorma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-administrativas-y-nacionales2013.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df?documentId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=0901e72b8145e12e</a:t>
            </a:r>
            <a:endParaRPr b="0" lang="en-US" sz="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Leonardo da Vinci</a:t>
            </a: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Movilidad</a:t>
            </a:r>
            <a:r>
              <a:rPr b="1" i="1" lang="en-US" sz="4400" spc="-1" strike="noStrike">
                <a:solidFill>
                  <a:srgbClr val="ff9900"/>
                </a:solidFill>
                <a:latin typeface="Arial Narrow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Comisión de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Prioridades Estratégica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1413000"/>
            <a:ext cx="76280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Se valora especialmente la gestión de la calidad de la movilidad basada en los principios  de la Carta Europea de la Calidad de la Movilidad (especial hincapié en la organización y la preparación de la movilidad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Se fomenta el desarrollo y aplicación de los elementos ECVET (de poca relevancia en España todavía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Para proyectos IVT: se incentivarán las propuestas de los Consorcios de movilidad LdV (propuesta que aglutina varios centro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158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Formulario de solicitu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Incorpora en todos los apartados la posibilidad de enfocar las respuestas referenciándolas al sistema de créditos ECVET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ÓLO para aquellos familiarizados con dicho sistema. La gran mayoría de solicitantes debe ignorar los apartados del formulario que incluyen referencias a dicho sistema (siempre en segundo lugar e indicado en el formulario como opcional para los proyectos que apliquen elementos ECVET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7:15:31Z</dcterms:created>
  <dc:creator>angeles.heras</dc:creator>
  <dc:description/>
  <dc:language>en-US</dc:language>
  <cp:lastModifiedBy>cristina.gallego</cp:lastModifiedBy>
  <dcterms:modified xsi:type="dcterms:W3CDTF">2012-12-11T09:51:12Z</dcterms:modified>
  <cp:revision>269</cp:revision>
  <dc:subject/>
  <dc:title>INTRODUCCIÓN</dc:title>
</cp:coreProperties>
</file>