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172200" y="6324480"/>
            <a:ext cx="1219320" cy="262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505640" y="6019920"/>
            <a:ext cx="1638360" cy="6271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smo Autónomo Programas Educativ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urop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 Reunión Nacional de Seguimiento Te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drid, 24 y 25 de mayo d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276960" y="76320"/>
            <a:ext cx="2790720" cy="1177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apee.e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UROPEAN SHARED TREA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E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90932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00"/>
                </a:solidFill>
                <a:latin typeface="Times New Roman"/>
              </a:rPr>
              <a:t>EST 20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76000" y="2924280"/>
            <a:ext cx="648180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3 274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Comenius multilate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907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Comenius bi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902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Grundtvig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532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Leonardo da Vin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252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Comenius Reg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104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Grundtvig SV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979640" y="2276640"/>
            <a:ext cx="669780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5 971 Partnerships from 31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181080" y="-243000"/>
            <a:ext cx="9325080" cy="7272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692360" y="3363840"/>
            <a:ext cx="720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99"/>
                </a:solidFill>
                <a:latin typeface="Arial"/>
                <a:ea typeface="Arial"/>
              </a:rPr>
              <a:t>24.967 beneficiaries invol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6481800" cy="107964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 Unicode MS"/>
              </a:rPr>
              <a:t>94.694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2762280"/>
            <a:ext cx="8964720" cy="4095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¡Muchas gracias por su atenció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7240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E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uropean 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S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hared 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T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reasure</a:t>
            </a: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1640" y="2637000"/>
            <a:ext cx="676116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Base de datos europ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Proyectos y productos       realizados por asociaciones Comenius, Grundtvig,Leonardo da Vinci, Comenius Regio y Voluntariado Sen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Obligatorio para los proyectos que finalizan en 20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7729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E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uropean 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S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hared 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T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reas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1711440"/>
            <a:ext cx="777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Difundir los proyectos europeos y sus produc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Publicarlos en una base de datos internacional para su consulta por el gran púb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Transferir buenas práct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836640"/>
            <a:ext cx="7427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E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uropean 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S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hared 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T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reasure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Ventaj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Facilitar la búsqueda d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Permite hacer estadíst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Permite valorizar el trabajo hecho por las asoci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Facilita encontrar buenas práct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Definición de excel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E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uropean 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S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hared 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T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reasure</a:t>
            </a: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1112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Tareas del OAP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Poner en marcha la infraestructura y mantenerla (carta a los beneficiar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Apoyar a los beneficiarios en 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Determinar buenas prácticas (Star Proj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E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uropean</a:t>
            </a: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S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hared</a:t>
            </a: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T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reasure</a:t>
            </a: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24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Tareas del beneficia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Introducir en la base de datos los resultados y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Hacer la traducción de la descripción del proyecto a la lengua n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E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uropean</a:t>
            </a:r>
            <a:r>
              <a:rPr b="0" lang="en-US" sz="44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S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hared 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T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reas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Proyectos “Estrella” se transfieren a 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Posibilidad de mayor difusión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63664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Funcionamiento de la base de datos</a:t>
            </a:r>
            <a:br>
              <a:rPr sz="4400"/>
            </a:br>
            <a:br>
              <a:rPr sz="4400"/>
            </a:br>
            <a:r>
              <a:rPr b="0" lang="es-ES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oapee.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RECOMEND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03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Periodo de tiempo fi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Guía del benefici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Selección de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Condiciones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0:13:12Z</dcterms:created>
  <dc:creator>OAPEE</dc:creator>
  <dc:description/>
  <dc:language>en-US</dc:language>
  <cp:lastModifiedBy>julia.lopez</cp:lastModifiedBy>
  <dcterms:modified xsi:type="dcterms:W3CDTF">2012-05-23T09:19:41Z</dcterms:modified>
  <cp:revision>20</cp:revision>
  <dc:subject/>
  <dc:title>Diapositiva 1</dc:title>
</cp:coreProperties>
</file>