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63C-A291-41E4-8FA9-02A3C379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FDA-B2B7-4DDE-9CCE-7CBCE0C2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B47-C0C7-40BE-9E80-21ECD4E9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215-BB38-4251-B399-6B2C26D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38A-9C2F-4FF5-9180-46442B6D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CD1-F10E-4184-93A2-11760C1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5AD-B803-4F39-87DB-3CD6E56A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7EA-8E39-48E7-BC3E-474AC24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D01-FE03-4DAE-81E0-71B478B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BBB-0D02-46DD-9FD8-6D3CEF99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AE9-E63A-495E-9DFF-8EBB8E1A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5CC-9EE9-457A-9D45-A1502A24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0AFE-819C-4158-A7E9-AD0D16A9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0CD6-85D5-4B54-883F-85A09719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E66A-7E84-4BB6-8BB8-D17D5DB8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94DB-B245-41EE-913D-2A00FFF3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5F32-868C-41BA-8709-36ABA52A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B942-16F6-4D2B-B3E2-B49C74C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4E4B-FF08-415D-ACCC-B37A1FB6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56F6-1536-4236-872A-F78672EE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A00A-C409-40BD-9D0C-F261363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B896-BD83-4674-8FFC-B08001D6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E150-72CF-4A27-AEF8-0C7F1D4D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82A4-F211-492F-863A-C60CD32E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18796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461960" cy="41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3419640" y="5734080"/>
            <a:ext cx="145404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8796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461960" cy="41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19640" y="5734080"/>
            <a:ext cx="1454040" cy="100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BB0C-A759-4A77-A8AC-A671B9EB7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187280" y="6021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92360" y="585144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36400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146232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B609-8139-4624-840C-CD3310376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6021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492360" y="585144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36400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146232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VISITAS DE ESTUDI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GRAMA TRANSVERSA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DICIONES DE PAGO Y DOCUMENTACIÓN</a:t>
            </a:r>
            <a:br>
              <a:rPr sz="1800"/>
            </a:b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EFICIARIOS DE VISITAS</a:t>
            </a: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3333cc"/>
                </a:solidFill>
                <a:uFillTx/>
                <a:latin typeface="Arial"/>
              </a:rPr>
              <a:t>ANTES DE LA VISITA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0066"/>
                </a:solidFill>
                <a:uFillTx/>
                <a:latin typeface="Arial"/>
              </a:rPr>
              <a:t>Si usted ha recibido el conveni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66"/>
                </a:solidFill>
                <a:latin typeface="Arial"/>
              </a:rPr>
              <a:t>Por favor, léalo con atención. Conozca las obligaciones de ambas part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66"/>
                </a:solidFill>
                <a:latin typeface="Arial"/>
              </a:rPr>
              <a:t>Además del convenio, se adjunta una guía práctica y tabla de dietas por paí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Debe enviar a la A.N dos ejemplares del Convenio Financiero firmados  antes de 30 días naturales a contar desde la fecha de  su recepción (pag. 1-9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Alta a tercer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La directora del OAPEE , como representante de la A.N. española firmará ambos ejemplares a su recepción, certificando el acuerdo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Se realizará  pre-financiación del 80% de la ayuda máxim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Plazo pago AN: 45 días naturales a partir de la entrada en vigor del convenio (a la firma de la última de ambas parte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Se les remitirá un ejemplar con ambas firma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DICIONES DE PAGO Y DOCUMENTACIÓN</a:t>
            </a:r>
            <a:br>
              <a:rPr sz="1800"/>
            </a:b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EFICIARIOS DE VISITAS</a:t>
            </a: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3333cc"/>
                </a:solidFill>
                <a:uFillTx/>
                <a:latin typeface="Arial"/>
              </a:rPr>
              <a:t>DESPUÉS DE LA VISITA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63280" y="1981080"/>
            <a:ext cx="7056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Si usted ha regresado de la visit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final 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EN LÍNEA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integrado por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eclaración de gast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de evaluació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moria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edagógic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demás deberá inclui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de grup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pia del certificado de asistenci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Pago final (hasta un máximo 20% de la ayuda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lazo: 45 días naturales desde la aprobación de la documentación fi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EJEMPLO</a:t>
            </a:r>
            <a:br>
              <a:rPr sz="1600"/>
            </a:b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UMPLIMENTACIÓN INFORME FINAL</a:t>
            </a:r>
            <a:br>
              <a:rPr sz="1600"/>
            </a:b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ISITA DE ESTUDIOS A PORTUGAL (VISITA 5 DÍ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47640" y="1700280"/>
          <a:ext cx="6913440" cy="4003560"/>
        </p:xfrm>
        <a:graphic>
          <a:graphicData uri="http://schemas.openxmlformats.org/drawingml/2006/table">
            <a:tbl>
              <a:tblPr/>
              <a:tblGrid>
                <a:gridCol w="1630440"/>
                <a:gridCol w="2895480"/>
                <a:gridCol w="23875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S DE LA 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CRIP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ORTE (EN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iajes y vis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costes re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ís que se visita- 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calidad-Lisb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echa inicio actividad. 22/10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echa fin actividad      26/10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98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S MÁXI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CRIP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ORTE (EN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etas (incluye seguro de viaje, alojamiento, manutención y transportes loc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úmero de días –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135 € x 6 dí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1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 TOTAL DE LA 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08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ONDICIONES DE PA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69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99"/>
                </a:solidFill>
                <a:uFillTx/>
                <a:latin typeface="Arial"/>
              </a:rPr>
              <a:t>DURACIÓN DE LAS VISIT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ISITAS FORMACIÓN PROFESIONAL Y MIXTAS:  3 - 4 DÍ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ISITAS EDUCACIÓN GENERAL: 5 DÍ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99"/>
                </a:solidFill>
                <a:uFillTx/>
                <a:latin typeface="Arial"/>
              </a:rPr>
              <a:t>DIETAS  (FINANCIACIÓN MÁXIMA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STINOS ULTRAMAR (Martinica, Guadalupe, La Reunión ,Islas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aimán, etc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ORIGEN (Islas Canarias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ías de duración de la visita + 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STO DE DESTINO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ías de duración de la visita + 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66"/>
                </a:solidFill>
                <a:uFillTx/>
                <a:latin typeface="Arial"/>
              </a:rPr>
              <a:t>    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SPECTOS PRÁCTICO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978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l organizador se pondrá en contacto con usted y le pedirá confirmación de su asistenci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remitirá la lista de participantes en la visit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facilitará información  (programa, visitas culturales, et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indicará lo que espera de los participantes (exposiciones y contenido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proporcionará información práctica (reserva de hotel, transportes, aeropuerto de llegada…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5800" y="2602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ANTES DE LA VI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ASPECTOS PRÁCTICOS</a:t>
            </a:r>
            <a:br>
              <a:rPr sz="1600"/>
            </a:b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DESPUÉS DE LA VISITA</a:t>
            </a:r>
            <a:br>
              <a:rPr sz="2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02920" y="1197000"/>
            <a:ext cx="7272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INFORME INDIVIDU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cribir los conocimientos o competencias adquirid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neficio y conclusiones de la visita de cara a su desarrollo profes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ciencia de la dimensión europea de su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ma en que piensa difundir lo aprendid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spectivas de impacto de la visita en su participación en otras acciones del PA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ANCELACIO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9280" y="1699920"/>
            <a:ext cx="7143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Deben comunicarse simultáneamente con suficiente antel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–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Al organizad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–</a:t>
            </a:r>
            <a:r>
              <a:rPr b="1" lang="es-ES" sz="2400" spc="-1" strike="noStrike">
                <a:solidFill>
                  <a:srgbClr val="9900cc"/>
                </a:solidFill>
                <a:latin typeface="Arial"/>
              </a:rPr>
              <a:t>A la Agencia Nac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Arial"/>
              </a:rPr>
              <a:t>Cambios de visi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Se solicitan única y exclusivamente a la 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Sólo se realizan si están debidamente  justificad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612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836280"/>
            <a:ext cx="78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FECTOS MULTIPLICADORES: SINERGI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sarrollo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proyectos educativos de carácter transnaciona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mplicación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e las personas asistentes y sus instituciones e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tros programas del PAP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clus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en el programa de visitas a centros o instituciones  que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participan 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coordinan  proyectos de los programas sectoriales Leonardo, Comenius, Grundtvig…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en otras movilidades individu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Visita de estudi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Colaboración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con instituciones europeas para el desarrollo de ideas innovadoras en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materia educativa y de formación profesion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corpor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nuevas metodologí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IFUS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ublic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artículos en revistas especializad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ublicación de buenas prácticas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personas participantes e instituciones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doras de Visitas de estudio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en seminarios internacion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60530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GERENCIAS PARA EL APROVECHAMIENTO DE LA VIS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92360" y="1341000"/>
            <a:ext cx="6742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ractique la lengua de trabaj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repare una breve presentació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Un pequeño regalo para el organizador es una muestra de cortesía habitual en las Visitas de estudi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Lleve información de su área profesional y de su centro u organismo. Es una buena manera de difundir lo que se está haciendo en su país o comunidad en materia educativ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nterésese por las políticas educativas y de formación para el empleo  que se están llevando a cabo en los países de origen de sus compañeros de visit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Amplíe sus relaciones profesional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Deje a la familia en casa. La Visita de estudio es un viaje de trabaj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Muéstrese participativo, colabore, aprenda, difunda lo aprendido y sobre todo…..¡disfrute la experiencia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EVALUACIÓN</a:t>
            </a:r>
            <a:br>
              <a:rPr sz="3600"/>
            </a:b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ARTÍCULO 7 (convenio financier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150320" cy="24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cc"/>
                </a:solidFill>
                <a:uFillTx/>
                <a:latin typeface="Arial"/>
              </a:rPr>
              <a:t>SEGUIMIENTO: EVALUACIÓN Y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Para recibir la financiació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odrán ser requeridas las facturas, justificantes, billetes y otra documentación relativa a la visita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76000" y="764640"/>
            <a:ext cx="676908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En qué consisten las visitas de estudi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Es una acción descentralizada gestionada por la Agencia Nacional (OAPEE), en colaboración con la agencia europea CEDEFOP (Centro Europeo de Desarrollo de la Formación profesional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sisten e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asistir a una visita organizada en otro país europeo participante en el Programa de aprendizaje permanente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 desarrolla e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pequeños grupos,(entre 8 y 15 participantes), procedentes de distintos países europeos que durante periodos d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res a cinco día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endrán la oportunidad de debatir, observar e intercambiar perspectivas e ideas sobre cualquier aspecto del ámbito educativo o de formación profesional en un país europeo diferente al suyo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l idioma de trabaj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de la visita es en su mayoría inglés, francés o alem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71600" y="11556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Visitas de estudi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3280" y="1125360"/>
            <a:ext cx="73598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 PROGRAMA COMPRENDE DOS ACTIVIDAD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 EN 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CIÓN DE 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INSTITUCIONES QUE LES ACOGERÁN</a:t>
            </a:r>
            <a:r>
              <a:rPr b="1" lang="en-GB" sz="1400" spc="-1" strike="noStrike" u="sng">
                <a:solidFill>
                  <a:srgbClr val="3333cc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676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nstituciones con responsabilidad en educación y formación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Administraciones  educativas públicas nacionales, autonómicas o loc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ntidades de orientación y evalu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entros de formación del profesorad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icios de inspección educativ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Asociaciones de formación y educ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ficinas de emple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ámaras de comercio e industri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rganizaciones empresari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Institutos de investig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Fundacion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YUDA DE FINANCIACIÓN A INSTITUCIONES ORGANIZADORAS DE VISITAS EN ESPAÑ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90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stos de desplazamientos, comidas, visitas culturales, material, etc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SPONSABILIDADES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onsultar el Handbook del organizador (disponible en español en la página del CEDEFOP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Elaborar un programa equilibr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porcionar a la AN programa de la visi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servar un alojamiento adecu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Informarse del perfil profesional de todos sus participantes en la base “Olive” del Cedefo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ontactar con los participantes al menos dos meses antes de la celebración de la visita y remitirles el programa previst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sponder a las dudas que les plantean sus participan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porcionar soporte logístico a los participantes y darles la información que requieran acerca de los contenidos de la visit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No todo es trabajo ….. (programe alguna actividad lúdica, visita cultural, et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SPONSABILIDADES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127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tactar con autoridades educativas, representantes de los agentes sociales, etc. con la suficiente antelació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cluir ponencias o intervenciones de ca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rtar visitas a centros, organismos o institucio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tar con una infraestructura que permita un desarrollo provechoso de la visit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porcionar a sus participantes un certificado de asistenc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94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ORGANIZADORES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692280"/>
            <a:ext cx="7677360" cy="43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DOCUMENTACIÓN REQUERIDA A LA INSTITUCIÓN ORGANIZADORA PARA PERCIBIR LA AYU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ertificado de organización de la visita emitido por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utoridad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rograma de la vi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forme de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15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727236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cc"/>
                </a:solidFill>
                <a:latin typeface="Arial"/>
              </a:rPr>
              <a:t>DOCUMENTACIÓN REQUERIDA A LA INSTITUCIÓN ORGANIZADORA PARA RECIBIR LA AYUDA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ertificado Agencia Tributaria de estar al corriente en el pago de sus obligaciones tributarias (</a:t>
            </a: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si el organismo no tiene obligación de tributar, certificado que acredite este extrem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ertificado Tesorería de la Seguridad Social de estar al corriente en el pago de los seguros sociales (</a:t>
            </a: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si el organismo no tiene obligación de pago por este concepto, certificado que acredite este extrem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uenta bancaria para realizar el pago-Debe constar de 20 dígitos  y hacer constar la titularidad de la misma (nombre de la institución beneficiaria de la ayuda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IF de la institución, centro u organismo organizador (Centro de Recursos, Consejería, etc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En el caso de que la ayuda se canalice a través de un centro de profesores y recursos, debe adjuntarse un certificado del director del centro en el que conste que el personal que presta servicios en el mismo depende de la correspondiente consejerí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Reconocimiento de la institución como organismo no deudo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VISITAS DE ESTUDIO</a:t>
            </a:r>
            <a:br>
              <a:rPr sz="2000"/>
            </a:br>
            <a:br>
              <a:rPr sz="12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561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Certificación de la activida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Las Administraciones educativas autonómicas acreditarán al profesorado participante en Visitas de estudio, expidiendo certificado de créditos de formació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El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Instituto Superior de Formación y Recursos en Red para el Profesorado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a propuesta de la AN, acreditarán al profesorado adscrito a centros de Ceuta y Melilla y a instituciones u organismos de la Administración centr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RÉDITOS- Según nº de horas ( hasta 3 créditos/visit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 1 crédito= 10 hora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RÉDITOS organizadores visitas (35 horas/visit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LIDAD DE LAS MOVILIDADES</a:t>
            </a:r>
            <a:br>
              <a:rPr sz="2000"/>
            </a:b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ARTA EUROPEA DE CALIDAD DE LA MOVILIDA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76360" y="1699920"/>
            <a:ext cx="72849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DOCUMENTO DIRIGIDO A ESTADOS MIEMBROS Y A ORGANIZACIONES RESPONSABLES DE LAS ESTANCIA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NO OLVIDEN QUE LAS ORGANIZACIONES QUE LES ACOGERÁN, DEBERÁN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frecerles información adecuada antes de la partid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tar con infraestructura en el país de acogid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frecerles contenidos que respondan al tema propuest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laborar un programa de equilibrado y de calida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LOS REPRESENTANTES DE ORGANIZACIONES EUROPEAS Y BENEFICIARIOS DE MOVILIDADES EN GENERAL DEBERÁN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ocer la lengua de traba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parar la visit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articipar de manera activ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7236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s-ES" sz="1200" spc="-1" strike="noStrike" u="sng">
                <a:solidFill>
                  <a:srgbClr val="9900cc"/>
                </a:solidFill>
                <a:uFillTx/>
                <a:latin typeface="Arial"/>
              </a:rPr>
              <a:t>DIRECCIONES DE INTERÉS</a:t>
            </a:r>
            <a:br>
              <a:rPr sz="1200"/>
            </a:br>
            <a:br>
              <a:rPr sz="1200"/>
            </a:b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 Organismo Autónomo Programas</a:t>
            </a: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Educativos Europeos</a:t>
            </a: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Gustavo Fernández Balbuena 13</a:t>
            </a: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28002 Madrid</a:t>
            </a:r>
            <a:br>
              <a:rPr sz="1200"/>
            </a:br>
            <a:br>
              <a:rPr sz="1200"/>
            </a:br>
            <a:r>
              <a:rPr b="1" lang="es-ES" sz="1000" spc="-1" strike="noStrike" u="sng">
                <a:solidFill>
                  <a:srgbClr val="0000cc"/>
                </a:solidFill>
                <a:uFillTx/>
                <a:latin typeface="Arial"/>
              </a:rPr>
              <a:t>Información general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oapee</a:t>
            </a: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@oapee.es</a:t>
            </a:r>
            <a:br>
              <a:rPr sz="1200"/>
            </a:br>
            <a:br>
              <a:rPr sz="1200"/>
            </a:br>
            <a:r>
              <a:rPr b="1" lang="es-ES" sz="1000" spc="-1" strike="noStrike" u="sng">
                <a:solidFill>
                  <a:srgbClr val="0000cc"/>
                </a:solidFill>
                <a:uFillTx/>
                <a:latin typeface="Arial"/>
              </a:rPr>
              <a:t>Cristina Figueroa</a:t>
            </a:r>
            <a:br>
              <a:rPr sz="1000"/>
            </a:br>
            <a:r>
              <a:rPr b="1" i="1" lang="es-ES" sz="1000" spc="-1" strike="noStrike">
                <a:solidFill>
                  <a:srgbClr val="0000cc"/>
                </a:solidFill>
                <a:latin typeface="Arial"/>
              </a:rPr>
              <a:t>cristina.figueroa@oapee.es</a:t>
            </a:r>
            <a:br>
              <a:rPr sz="1000"/>
            </a:b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200"/>
            </a:b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 Web: </a:t>
            </a: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www,oapee.es</a:t>
            </a:r>
            <a:br>
              <a:rPr sz="1200"/>
            </a:b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CEDEFOP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400" spc="-1" strike="noStrike">
                <a:solidFill>
                  <a:srgbClr val="0000cc"/>
                </a:solidFill>
                <a:latin typeface="Arial"/>
              </a:rPr>
              <a:t>http://studyvisits.cedefop.europa.eu</a:t>
            </a:r>
            <a:br>
              <a:rPr sz="18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765000"/>
            <a:ext cx="7162920" cy="39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476000" y="765000"/>
            <a:ext cx="67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operación europe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cambio de información y  experiencias entre especialistas en educación y 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ocer políticas europeas en materia educativa y de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11556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76360" y="765000"/>
            <a:ext cx="6912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mitir que los responsables de la educación a nivel local, regional o nacional puedan compartir, revisar y modificar metodologías y herramientas  a través de la observación y el conocimiento de las estructuras educativas y las reformas en otros Estados miembr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cambio de ideas entre todos los participantes del progra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umentar la información sobre educación y difundirla entre los responsables polític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forzar la dimensión europ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99"/>
                </a:solidFill>
                <a:uFillTx/>
                <a:latin typeface="Arial"/>
              </a:rPr>
              <a:t>TIPOS DE VISITAS</a:t>
            </a:r>
            <a:r>
              <a:rPr b="1" lang="en-GB" sz="1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6360" y="2204640"/>
            <a:ext cx="6934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educación general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VE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mixed</a:t>
            </a:r>
            <a:r>
              <a:rPr b="0" lang="es-E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Arial"/>
              </a:rPr>
              <a:t>ASISTENTES A UNA VISITA DE ESTUDI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u perfil profesional debe corresponderse con la temática de la visita a la que desea asisti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be tener capacidad multiplicadora y compromiso para difundir las conclusiones de la activida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apacidad de generar impacto posterior y de incorporar estrategias y metodologías a su actividad profesio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be tener potencial para contribuir al intercambio, la cooperación y la innovación de las políticas de educación y formación profesional en Europ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FINANCIACIÓN DE LA ACTIVIDAD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todos los destinos excepto territorios ultramar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35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plazamiento y visados de entrada/sal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ancia (manutención y alojamiento) incluido el seguro de via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FINANCIACIÓN DE LA ACTIVIDAD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 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para beneficiarios con destino territorios ultramar</a:t>
            </a:r>
            <a:br>
              <a:rPr sz="1600"/>
            </a:b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y beneficiarios con origen en las Islas Canarias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55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plazamiento y visados de entrada/sal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ancia (manutención y alojamiento) incluido el seguro de via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PERIODOS DE PAGO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Financiación anticipada ( 80% de la ayu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zo: 45 días naturales a partir de la entrada en vigor del convenio (a la firma de la última de ambas part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ago final (hasta un máximo 20% de la ayu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zo: 45 días naturales desde la aprobación de la documentación fi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46:44Z</dcterms:created>
  <dc:creator>cecilia.baquero</dc:creator>
  <dc:description/>
  <dc:language>en-US</dc:language>
  <cp:lastModifiedBy>TANDEM</cp:lastModifiedBy>
  <dcterms:modified xsi:type="dcterms:W3CDTF">2013-09-11T18:48:32Z</dcterms:modified>
  <cp:revision>37</cp:revision>
  <dc:subject/>
  <dc:title>Presentación de PowerPoint</dc:title>
</cp:coreProperties>
</file>