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F30E-842D-47D6-8C2C-8981BEFB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61C9-C171-46FE-8C55-F202DF68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64DA-9BA6-43B2-9B3C-3FECAF1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CF8D-5DF4-492D-BF92-5086E31D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901A-6CF0-4651-950E-9CF05C7F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2E88-05A5-4B5A-8460-057800B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008-FBDB-4657-8FEE-3BF6453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F1B-4150-4D4D-A312-4F3F460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CFE1-1ACE-4C78-B0AD-C836BDAA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A738-9BD5-446C-8300-5876225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61A-2318-4919-A964-20BAF0F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51F3-8EEA-4400-A6F4-7A38C48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09C5-0F2B-41E1-A221-BDF11DA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9836-1246-430C-AC68-A2A4F32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4AC-EDCB-404E-9AB8-ADE6B35B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4BDD-0019-4BD9-B360-C05FFF2D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111-5CC6-4067-8C8E-13959427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44DE-E90E-4679-BBB9-5B7312D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8050-D772-4ECF-9CF4-890AD6F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F424-1125-4729-91C2-E4AC908C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C135-BCFD-4257-BA1E-5433D178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21F1-C4AB-4A42-AED5-416F78E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3656-88F2-49D7-B4AA-6C7ECDD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4334-720B-4D36-BDB9-7ECD562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84360" y="260280"/>
            <a:ext cx="612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48720" y="304920"/>
            <a:ext cx="39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BB7C-E9B5-40F2-B899-4E50E17674E3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076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68360" y="6308280"/>
            <a:ext cx="446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6AD0-B15B-4414-A7FB-B2E3843CF12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DAC-F6F5-4BEB-8878-62E1B7F88F7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13192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uropass Website Re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5873760"/>
            <a:ext cx="269244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58400" y="3382560"/>
            <a:ext cx="694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Sneak P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327640"/>
            <a:ext cx="694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mitris Zavaliadis, Europass Technic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390920"/>
            <a:ext cx="6945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aga, 10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esign’s Mai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50120" y="1557360"/>
            <a:ext cx="26589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852640"/>
            <a:ext cx="6119640" cy="194472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mprove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800" spc="-1" strike="noStrike">
                <a:solidFill>
                  <a:srgbClr val="0066ff"/>
                </a:solidFill>
                <a:latin typeface="Arial"/>
              </a:rPr>
              <a:t>User 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4936-9227-4A61-8B18-3585DF6574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pects of User Experience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02080"/>
            <a:ext cx="3313080" cy="935280"/>
          </a:xfrm>
          <a:prstGeom prst="wedgeRoundRectCallout">
            <a:avLst>
              <a:gd name="adj1" fmla="val 36439"/>
              <a:gd name="adj2" fmla="val -98046"/>
              <a:gd name="adj3" fmla="val 16667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You can’t use what you can’t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4581360"/>
            <a:ext cx="2519280" cy="1224000"/>
          </a:xfrm>
          <a:prstGeom prst="wedgeRoundRectCallout">
            <a:avLst>
              <a:gd name="adj1" fmla="val -63800"/>
              <a:gd name="adj2" fmla="val -45717"/>
              <a:gd name="adj3" fmla="val 16667"/>
            </a:avLst>
          </a:prstGeom>
          <a:solidFill>
            <a:srgbClr val="bbe0e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You can’t use what you can’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637000"/>
            <a:ext cx="2016360" cy="1655640"/>
          </a:xfrm>
          <a:prstGeom prst="wedgeRoundRectCallout">
            <a:avLst>
              <a:gd name="adj1" fmla="val -71180"/>
              <a:gd name="adj2" fmla="val -10115"/>
              <a:gd name="adj3" fmla="val 16667"/>
            </a:avLst>
          </a:prstGeom>
          <a:solidFill>
            <a:srgbClr val="bbe0e3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Humans are visible beings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484280"/>
            <a:ext cx="3241800" cy="865080"/>
          </a:xfrm>
          <a:prstGeom prst="wedgeRoundRectCallout">
            <a:avLst>
              <a:gd name="adj1" fmla="val 32958"/>
              <a:gd name="adj2" fmla="val 83759"/>
              <a:gd name="adj3" fmla="val 166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ase of use is vital but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950080"/>
            <a:ext cx="4321080" cy="577800"/>
          </a:xfrm>
          <a:prstGeom prst="wedgeRoundRectCallout">
            <a:avLst>
              <a:gd name="adj1" fmla="val -41879"/>
              <a:gd name="adj2" fmla="val -148902"/>
              <a:gd name="adj3" fmla="val 16667"/>
            </a:avLst>
          </a:prstGeom>
          <a:solidFill>
            <a:srgbClr val="bbe0e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rust is key to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1557360"/>
            <a:ext cx="3095640" cy="576360"/>
          </a:xfrm>
          <a:prstGeom prst="wedgeRoundRectCallout">
            <a:avLst>
              <a:gd name="adj1" fmla="val -57537"/>
              <a:gd name="adj2" fmla="val 6680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levance i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3213000"/>
            <a:ext cx="2376360" cy="1224000"/>
          </a:xfrm>
          <a:prstGeom prst="wedgeRoundRectCallout">
            <a:avLst>
              <a:gd name="adj1" fmla="val 114597"/>
              <a:gd name="adj2" fmla="val -5513"/>
              <a:gd name="adj3" fmla="val 16667"/>
            </a:avLst>
          </a:prstGeom>
          <a:solidFill>
            <a:srgbClr val="bbe0e3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he bottom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liv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524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.k.a. the User Experience Honeycomb (Peter Morv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FB2D-F746-4C97-BD5F-42167BF5E4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isting Website vs. Honey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2560" y="5445000"/>
            <a:ext cx="79236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213000"/>
            <a:ext cx="216036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e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89320" y="5445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5800" y="1844640"/>
            <a:ext cx="1727280" cy="2089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ight increase even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292640"/>
            <a:ext cx="172728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refore th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A1EA-070D-447C-8B5E-2CAD895886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Usabil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D48A-219C-47A0-86EA-CB4F42B79E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7C9B-050E-4A37-AD74-3C00903F7F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site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site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nstruments redesign spec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instruments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instruments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316A-81E6-4D52-B856-BFDE71D946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A62D-648F-416A-A8F2-75A26F5269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45:30Z</dcterms:created>
  <dc:creator>Zavaliadis Dimitris</dc:creator>
  <dc:description/>
  <dc:language>en-US</dc:language>
  <cp:lastModifiedBy>europassx3</cp:lastModifiedBy>
  <dcterms:modified xsi:type="dcterms:W3CDTF">2011-05-06T18:43:21Z</dcterms:modified>
  <cp:revision>1649</cp:revision>
  <dc:subject/>
  <dc:title>Europass cooperation with external applications</dc:title>
</cp:coreProperties>
</file>