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5560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8800" y="744120"/>
            <a:ext cx="4951440" cy="37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5560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73F4-8049-4278-9012-90A829DD2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6C2F-6C74-4F07-BA2F-A0CCAAB6C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97EA-E341-4981-950A-1FC9D64E9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6D7-B301-4C00-8666-7E8EFDB54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57A4-EEB7-4121-B54B-FA1E1F1ED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8ED5-A268-4E9B-A7ED-15AA54B42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678C-4A34-4F5F-87B8-6E331F2B4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63BD-6277-4AE9-8C70-5588F40D7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74E-759A-46D9-BB56-753DAE6A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77F-D71E-4392-ADC5-A38D3E12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FBF-C6AC-4019-AF67-794B7E09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9AF-F2F1-48B6-8BBB-CE0221C6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22C-85DD-4D0C-B5C7-152685D6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78B-F72A-41AC-9D49-77C092DD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311-1CBF-4B2C-B7A3-C9CBFAE8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7E1-045C-40C0-9F92-54E8E9DD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79640" y="183960"/>
            <a:ext cx="640872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EBD-1886-43C6-ACEC-4998EFEC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88D-408C-4A53-8B07-2FF5F2F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0E5-B5F2-4E05-BB29-DA554DF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353-4CB0-4FC0-9E16-C47C9EC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1763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440"/>
            <a:ext cx="1763640" cy="111600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753" h="559">
                <a:moveTo>
                  <a:pt x="0" y="0"/>
                </a:moveTo>
                <a:cubicBezTo>
                  <a:pt x="583" y="0"/>
                  <a:pt x="583" y="0"/>
                  <a:pt x="583" y="0"/>
                </a:cubicBezTo>
                <a:cubicBezTo>
                  <a:pt x="676" y="0"/>
                  <a:pt x="753" y="76"/>
                  <a:pt x="753" y="170"/>
                </a:cubicBezTo>
                <a:cubicBezTo>
                  <a:pt x="753" y="389"/>
                  <a:pt x="753" y="389"/>
                  <a:pt x="753" y="389"/>
                </a:cubicBezTo>
                <a:cubicBezTo>
                  <a:pt x="753" y="483"/>
                  <a:pt x="676" y="559"/>
                  <a:pt x="583" y="559"/>
                </a:cubicBezTo>
                <a:cubicBezTo>
                  <a:pt x="0" y="559"/>
                  <a:pt x="0" y="559"/>
                  <a:pt x="0" y="55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15480" y="623700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A1B2-F64E-472E-B3C8-F2BDB420D88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eacea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7682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arrows_02"/>
          <p:cNvPicPr/>
          <p:nvPr/>
        </p:nvPicPr>
        <p:blipFill>
          <a:blip r:embed="rId3"/>
          <a:stretch/>
        </p:blipFill>
        <p:spPr>
          <a:xfrm>
            <a:off x="7313760" y="-27000"/>
            <a:ext cx="1830240" cy="13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icon"/>
          <p:cNvPicPr/>
          <p:nvPr/>
        </p:nvPicPr>
        <p:blipFill>
          <a:blip r:embed="rId4"/>
          <a:stretch/>
        </p:blipFill>
        <p:spPr>
          <a:xfrm>
            <a:off x="450720" y="6237360"/>
            <a:ext cx="398520" cy="430200"/>
          </a:xfrm>
          <a:prstGeom prst="rect">
            <a:avLst/>
          </a:prstGeom>
          <a:ln w="0">
            <a:noFill/>
          </a:ln>
        </p:spPr>
      </p:pic>
      <p:sp>
        <p:nvSpPr>
          <p:cNvPr id="11" name="Line 13"/>
          <p:cNvSpPr/>
          <p:nvPr/>
        </p:nvSpPr>
        <p:spPr>
          <a:xfrm>
            <a:off x="450720" y="6165720"/>
            <a:ext cx="824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EUROPASS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2011  </a:t>
            </a: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Management and Financial issue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ACEA – Education, Audiovisual and Culture Executive Agency</a:t>
            </a:r>
            <a:br>
              <a:rPr sz="2400"/>
            </a:br>
            <a:br>
              <a:rPr sz="24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Vyte Ezerskien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Pascale Storm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Filip Steppe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7FCE-A160-46C2-A079-631D7CF34D58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Financial report 201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Costs -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Two type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A. Direct costs (staff, travels, ICT, equipment, operating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B. Indirect costs (eligible only if not covered already by another operating grant,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Revenue part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C funding limited by the EC decision (see art.1.3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uropass con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Other sources of incom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F7F3-2C10-4BBE-962D-C7702B70A84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REPORTING :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 beneficiary certifies on his honour that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formation contained in the final report is full, reliable and true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 costs incurred can be considered eligible in accordance with the grant agree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costs are substantiated by adequate supporting documents that can be checked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7529-6F11-4A06-B97B-5474B08278FB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 costs meet the following criteria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tually incurre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during the du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 as specified in the Grant Decision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nnected with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the subject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the work programm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d 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ndicated in the estimate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verall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budget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507-5D31-4B06-9975-885E4909968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ecessary for implement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P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dent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ver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, (i.e recorded in the accountancy of the beneficiary, determined according to th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standards of the count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to the usual cost-accounting practices of the beneficiary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mpl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with the requirements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applicable tax and social legislations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1520-E176-496D-B997-C8EADBC556F9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easonable, justified, comply with the requirements of sound financial management (i.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economy and efficiency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counting/internal auditing procedures must permit direct reconciliation of the costs and revenue declared in respect of the work programme with the corresponding accounting statements and supporting docu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4AA-556D-4717-B26A-490F89F12DA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 (on the payroll of the centr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cludes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ctual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salaries plus social security charges and other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statuto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sts, provided that this does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ot exceed the average rat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rresponding to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beneficiary's 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usual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policy on remune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eligible: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bonuses, leased car, expense account schemes, incentive, payments or profit-sharing scheme</a:t>
            </a: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D06B-24ED-46E1-998E-30F864821B1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609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Only working days in work plan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Part-time, the pro-rata stated (time sheets, report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Wages for employees –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employment contrac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Do not include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 ad hoc external staff, which is purchase of services (e.g.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service and consultancy contract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Keep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original time-sheets signed (name, function, percentage of time if working on several actions etc.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aff contracts, payslips and related payment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000B-7BEB-458B-96A9-6BFFCAAD6712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staff only (otherwise in “other costs”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ates must correspond to the beneficiary’s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usual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practices (contract art.9.2 or II.14.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aily allowance for each day of meeting (include all costs e.g. meals and local transport, travel and accident insurance)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Number of nights = meeting days + 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Keep all justifying documents &amp; signed mission repor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4FB-9FEE-4EB7-A660-0D15670434F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ny activities …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gible countri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r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". (Section 5.2. Eligible activities)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…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ravels …outside eligible countries … be accepted in exceptional and duly justified cases, i.e.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proven added value in terms of policy and content related to the network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…prior agreement of EACEA … requested... " (ToR section 9.5. Eligible costs,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.B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5AF9-A640-4464-8392-28C7B0276D64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Conversion ra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xpenses are converted into EUR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t the monthly accounting rate established by the European Commission and published on its website, for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first month of the eligibility perio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A400-F3FE-41F2-8DDB-C758CA6567A8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am in P3, EACE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ad map 2010 -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nt request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nci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OPERATING COSTS &amp; OVERHE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 beneficiary may be awarded only one operating grant from the budget per financial year.” - (R.F. Article 11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centre receiving another operating grant, indirect costs are not eligible under EUROPASS budge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46E4-23A2-4AD0-A58B-FFB19DF87CCB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INELIGIBLE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6699"/>
                </a:solidFill>
                <a:uFillTx/>
                <a:latin typeface="Arial"/>
              </a:rPr>
              <a:t>VAT: Costs must be presented VAT excluded</a:t>
            </a: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, unless you cannot recover it (for private legal entities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UT “By derogation to Article 9.3. of the General Conditions, seventh indent, VAT paid by public bodies shall </a:t>
            </a:r>
            <a:r>
              <a:rPr b="1" lang="nl-BE" sz="3200" spc="-1" strike="noStrike">
                <a:solidFill>
                  <a:srgbClr val="336699"/>
                </a:solidFill>
                <a:latin typeface="Arial"/>
              </a:rPr>
              <a:t>never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e an eligible cost."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Contributions in kin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35C-5CB5-4106-9D97-4931F1102E0B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BAA5-8172-45BD-8E4A-FAA67757B238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CEA Europass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Head of Unit (Legal representativ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HALLER-BLOCK U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Financi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OPHANSAY Phetsamon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EPPE Filip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ORME Pascale – financial co-ordi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Operation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ZERSKIENE Vy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99"/>
                </a:solidFill>
                <a:latin typeface="Arial"/>
              </a:rPr>
              <a:t>BOTTI Renat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EACEA-EUROPASS@ec.europa.e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3. Road map 2010 – 2011 </a:t>
            </a:r>
            <a:br>
              <a:rPr sz="2400"/>
            </a:br>
            <a:r>
              <a:rPr b="1" lang="fr-BE" sz="2400" spc="-1" strike="noStrike">
                <a:solidFill>
                  <a:srgbClr val="ff9900"/>
                </a:solidFill>
                <a:latin typeface="Arial"/>
              </a:rPr>
              <a:t>(May-November 2011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267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agreements/decisions 2011 (all done except 3 suspended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prefinancing 80% (will be finalised mid May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ober/November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October 2011 – Terms of Reference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November 2011 – DEADLINE - Grant request (GRF)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ynthesis Repor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8 –  will be disseminated in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9 – being drafted (July 2011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nt applications 20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34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grant applica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ew centres: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roatia, Malt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requested: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067.162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available: 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160.000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nal Reports 20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ll final reports receiv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inal Grant requested: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1.914.629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Max Grant available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:   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2.100.000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valuation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May-Ju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Payment of final balance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end May-mid Ju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Logo of Lifelong Learning Programm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cknowledge - European Union's contribution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O LLP logo → grant may be reduced or agreement/decision terminated (article 10.4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Financial and contractu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IGIBLE BENEFICIA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designated bodies can be signatory of  the EC EUROPASS Decisions/agreements and receive the fun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the beneficiary that receive the grant and which receive the funds can charge its costs in the frame of its Europass contrac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A6B9-9F51-4D78-A1EC-2EF5D8D06CE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0:44:45Z</dcterms:created>
  <dc:creator>bruyaol</dc:creator>
  <dc:description/>
  <dc:language>en-US</dc:language>
  <cp:lastModifiedBy>sadia.khokhar</cp:lastModifiedBy>
  <dcterms:modified xsi:type="dcterms:W3CDTF">2011-05-12T09:30:42Z</dcterms:modified>
  <cp:revision>195</cp:revision>
  <dc:subject/>
  <dc:title>Welcome ! </dc:title>
</cp:coreProperties>
</file>