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E6B5-95CE-4D63-9047-9D9A7A0BC6A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u geen link tussen Digi-K en deze database. In de toekomst hopelijk w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EEC-BC8D-44AA-BC26-B3C1D44C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A2F-B043-4BA8-AC66-90822A16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8AD-A40B-4984-80FB-1EACB07B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1FA-EBEC-4A20-A939-4EC5ADC5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E3D-B852-434D-A54D-C227F0D2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949-13BB-4D7E-8FDF-180C2BF0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C8D-D022-44CD-8968-B8010433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5AB-686F-40E7-8013-0F510211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3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5E8-4DC7-4197-B7DC-AB667824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BF9-09CF-4AA4-88E0-C3B67DD1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CD1-BB0D-4058-BD31-3297EBB1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CE0-CE89-4F35-81DD-EF434E3F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AEA0-3148-4C09-A3A4-D2D331CD3F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lnrp.nl/" TargetMode="External"/><Relationship Id="rId3" Type="http://schemas.openxmlformats.org/officeDocument/2006/relationships/hyperlink" Target="http://www.nlnrp.nl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lnrp.nl/" TargetMode="External"/><Relationship Id="rId3" Type="http://schemas.openxmlformats.org/officeDocument/2006/relationships/hyperlink" Target="http://www.coloplatform.nl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lnrp.nl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Database Europass Certificate Supplement</a:t>
            </a:r>
            <a:br>
              <a:rPr sz="2800"/>
            </a:br>
            <a:r>
              <a:rPr b="1" lang="en-US" sz="2400" spc="-1" strike="noStrike">
                <a:solidFill>
                  <a:srgbClr val="00bee1"/>
                </a:solidFill>
                <a:latin typeface="Arial"/>
              </a:rPr>
              <a:t>the Netherlands</a:t>
            </a:r>
            <a:endParaRPr b="1" lang="en-US" sz="24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4990"/>
                </a:solidFill>
                <a:latin typeface="Arial"/>
              </a:rPr>
              <a:t>Indira von Oven – Colo (Dutch NEC)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4990"/>
                </a:solidFill>
                <a:latin typeface="Arial"/>
              </a:rPr>
              <a:t>8-5-2011, Malaga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4990"/>
                </a:solidFill>
                <a:latin typeface="Arial"/>
              </a:rPr>
              <a:t>Email: i.vonoven@colo.n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Improvements of the database</a:t>
            </a:r>
            <a:r>
              <a:rPr b="1" lang="nl-NL" sz="2800" spc="-1" strike="noStrike">
                <a:solidFill>
                  <a:srgbClr val="00bee1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Improving the administrative part of the databas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Improving the website of the NRP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Making it possible to change all the CS at once (example change in address, adding the EQF / NLQF level)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Linking all databases together </a:t>
            </a:r>
            <a:r>
              <a:rPr b="0" lang="en-US" sz="2400" spc="-1" strike="noStrike">
                <a:solidFill>
                  <a:srgbClr val="00499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 generating CS directly within the databas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172360" y="5877000"/>
            <a:ext cx="743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Certificate Supplement: statistics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Europass Certificate Supplement is available free of charge o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lnrp.nl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Automatically generated from the qualification websit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Certificate Supplements are available: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all new level 3 + 4 qualifications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qualifications 2008: 125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old qualifications: 200  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Available in Dutch and English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10108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Why a new database?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Word and Excel not sufficient for so many CS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Difficult to search through all the CS available online and available within Word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No connection between Word and the online databas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Only possible to search in alphabetical order, no other search options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101080" y="5877000"/>
            <a:ext cx="743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12280" r="39983" b="31103"/>
          <a:stretch/>
        </p:blipFill>
        <p:spPr>
          <a:xfrm>
            <a:off x="-1440" y="0"/>
            <a:ext cx="9145440" cy="630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17236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Meer informatie?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lnrp.n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oloplatform.n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rcRect l="0" t="12277" r="0" b="0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810108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So let’s have a look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On the internet: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lnrp.n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Alphabetical order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Key words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Via extended search options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Name qualification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Qualification number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Qualification level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Branch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17236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12939" r="0" b="456"/>
          <a:stretch/>
        </p:blipFill>
        <p:spPr>
          <a:xfrm>
            <a:off x="0" y="404640"/>
            <a:ext cx="9144000" cy="583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10108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0" t="12503" r="8025" b="2310"/>
          <a:stretch/>
        </p:blipFill>
        <p:spPr>
          <a:xfrm>
            <a:off x="324000" y="333360"/>
            <a:ext cx="8642160" cy="5977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172360" y="5877000"/>
            <a:ext cx="743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12800" t="12939" r="14161" b="20131"/>
          <a:stretch/>
        </p:blipFill>
        <p:spPr>
          <a:xfrm>
            <a:off x="468360" y="404640"/>
            <a:ext cx="8351640" cy="5500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877000"/>
            <a:ext cx="7426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0:30:49Z</dcterms:created>
  <dc:creator>mavb</dc:creator>
  <dc:description/>
  <dc:language>en-US</dc:language>
  <cp:lastModifiedBy>sadia.khokhar</cp:lastModifiedBy>
  <dcterms:modified xsi:type="dcterms:W3CDTF">2011-05-17T11:00:50Z</dcterms:modified>
  <cp:revision>12</cp:revision>
  <dc:subject/>
  <dc:title>Certificaatsupplement op internet Coloplatform</dc:title>
</cp:coreProperties>
</file>