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4F3-CE61-4E74-A87D-2466BE30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62C-2CF4-4CA4-9A39-4674CA75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467-E876-4BDE-ABD2-A7FC1D63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1A1-F69E-4C0F-9775-D1B03462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230-FD0B-4A75-B4DF-39E8D29F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A63C-CC95-4875-87D7-BFB7AD84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5F7A-A8E1-48B6-BF73-30BE5F1C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DA70-5371-4543-9448-56D6424F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1D64-9706-4128-A293-4CA66405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E2FF-0D18-40A0-89B3-4701E525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04B-692D-4C25-8485-D07ECCCD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221-6FC7-41EE-AFD2-7DD7613C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E99D-3F1C-4ADC-881A-55D07DD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5A1-536E-4483-A686-10B19CDB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CCA1-2800-46C9-B937-9611C23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2EC1-F32B-4882-8922-92477F95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DF7-1EB6-44FC-9278-BD702BB5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350-D436-4FE6-954D-E72A63D0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784-CD72-4EFC-9659-5EB214E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A34-739E-4C88-B371-BC8E3152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306-4486-4521-9F9E-B85FAFB2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0CA-092B-4ED3-A731-BE7488D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9B2-4FB7-4B9F-9CFC-7C39109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779-FF39-468D-944F-DA5D94F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719-C8E5-4665-998D-9BE0E27D22E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7BE-FF64-4B6D-B6D3-32233435050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entury Gothic"/>
              </a:rPr>
              <a:t>CREATIVIDAD E INNOVACIÓN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SEMINARIO INTERNACIONAL DEL CONSEJO DE EUROPA MAYO 2009</a:t>
            </a:r>
            <a:br>
              <a:rPr sz="2200"/>
            </a:b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981000"/>
            <a:ext cx="4567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6633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26D-28CC-4968-88C6-62DA365703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NCEPTOS CLA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96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OCER OTROS PROFESIONALES Y RE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LICAR Y DIFUNDIR EXPERIENCIAS E INNOV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ORAR LA DIVERSIDAD PARA RESPETAR LAS DIFERENTES CULTU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EOS DE CONTINUAR INTERACTU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D5C-80F1-4531-AF80-2CA7C8FD92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INICIATIV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IMIL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OTENCIACIÓN DE LAS NUE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ALORACIÓN DE LA EDUCACIÓN PLURILINGÜE EN LAS DIFERENTES ETAPAS EDU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B16-5981-41F9-A642-B07B2B8AD4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ICIATIVAS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534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INGULAR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PORTUG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ordenadores para profesores(150€) y alumnos(50 €).Es gratis para los que no tienen din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las sesiones de clase son de 90 minutos en todas las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HIPRE Y AUSTRIA: certificación europea de conocimientos de infor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ESPAÑ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Andalucía:coordinador de co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Cataluña:planes educativos de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-C.valenciana:implantación de la metodología CLIL(plurilingüis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USTRIA: hay grupos donde la enseñanza se realiza con portátiles durante toda la jor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904-7E00-4E8E-BF16-5DEAE21DBB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FORMACIÓ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SIMIL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 F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ormación permanente a lo largo de la vida profe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- Manuales actualizados al marco de referencia de las lengu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-Ayudas y becas para formarse en cualquier campo en el país de origen u en otros pa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EED-BD51-45E2-826B-1CDB5CBEF4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CIÓ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1688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INGULAR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AUSTRIA:En cada una de las nueve provincias existe un instituto pedag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CHIPRE:No hay oposiciones para acceder a la docencia.Sistema de listas por año de grad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PAÑA:Cada C.A tiene su propio centro de formación que recibe nombres 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Reserva de plazas para el profesorado en las distintas E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-PORTUGAL:Los sindicatos y las asociaciones se encargan de la formación del profesorado que luego valida la administración. 25 horas de formación cda año son obligatorias, la mitad en su área de enseñ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34D-4F32-41BC-A320-13AADEC2D6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MATERIALES Y RECURS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SIMIL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Utilización de foros, blogs,webs,plataformas mood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"/>
              </a:rPr>
              <a:t>-WEBS DE INTERÉ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lsr-noe.gv.ac.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bmukk.gv.ac.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CHIP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www.moec.gov.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634-EE0C-4A65-95FE-2C3D0EE0F8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ERIALES Y RECURSOS 2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PAÑ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ceei.es(centro europeo de empresas e innov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Andaluc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juntadeandalucia.es  (agencia idea, innovación y desarro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Cataluñ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20.gencat.cat/portal/site/Educació (áreas de actuación e innovación educativ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joanteixido.org  (tercer premio CIDE investigación educativa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PORTUG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www.dgidc.min-edu.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FE8-C8D5-4453-9D6C-6AAF7D449B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900" spc="-1" strike="noStrike">
                <a:solidFill>
                  <a:srgbClr val="330066"/>
                </a:solidFill>
                <a:latin typeface="Arial"/>
              </a:rPr>
              <a:t>4.Valoración y sug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Aspectos positiv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Notable organización(nivel general de los ponentes muy elevado,elección del sitio,acogida,apoyo,ambiente de trabajo, gastronomía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Acertada selección de los participantes (diversidad de origen , de etapas educativa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El trabajo en  grupos reducidos ha sido clave  para intercambiar información e id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CC0-1010-4AD8-9B40-594D412B45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VALORACIÓN Y SUGERENCIAS 2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SUG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a duración de algunas ponencias y los powerpoints sobrecargados de información no facilitaban la comprensión del 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as ponencias podrían repartirse en papel recogiendo las ideas cent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-Los participantes podrían rotar por distintos grupos de trabaj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0E0-9327-4DAB-A496-95F8C252F8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upo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86vmb</cp:lastModifiedBy>
  <cp:lastPrinted>2004-02-03T17:19:35Z</cp:lastPrinted>
  <dcterms:modified xsi:type="dcterms:W3CDTF">2009-05-07T14:35:24Z</dcterms:modified>
  <cp:revision>351</cp:revision>
  <dc:subject/>
  <dc:title>COMPETÈNCIES  BÀSIQUES</dc:title>
</cp:coreProperties>
</file>