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  <p:custShowLst>
    <p:custShow name="Presentación personalizada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6831-73AF-47E5-AE9B-78BF52E926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869C-22A5-40B4-A8C9-5B06166A48F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E412-8F2E-4CA8-9891-5053EEA1A3C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0AC0-F05C-42B6-B866-2C8C987663A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A741-E856-45B7-ABFF-AF7B70245A1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BCEA-61FD-4875-8379-41DE0D26C11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6798-B775-49D9-BAA6-313B842B5D3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4FD2-B52D-4074-B402-484744A3940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F11D-9117-4C4C-B02F-8755C02C382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0E6D-95C4-420B-AD4F-6910F6520B8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FAD5-E495-4550-B461-F1CCF213549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6679-FD8D-45F6-B462-1F34A834776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82DC-5E3D-41AD-ACAF-BE5411B82DE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DF7C-63BE-4953-A263-34762F2E7A2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3BE9-3B43-4EA3-A8F7-F1D755B7039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36F5-335E-439D-BD43-D315D24417D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B01B-9FA4-4FDC-A5E8-339BCF79DB6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1C13-0705-4DFA-BDEB-6189543F769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E7AC-2C40-4651-B409-B2F0F7E5C55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F8C8-630B-4606-8953-F76DD557394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387-2F0D-45FE-802A-CE2676F7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35D-0060-4860-81F1-EA37AA8D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0ED-BA96-4389-831A-81508CE9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B09-75DF-40DE-96C2-070E3115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D6FB-25E5-48AC-91D6-9BEF1695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9DC1-013B-47A5-B477-550A3744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5F3C-6162-4A76-A185-30A64CFB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2C11-261C-434E-9792-76495344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510B-3FCB-4618-B85C-0F6B0D41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F599-1BD5-487A-B026-86DB6E51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B360-67CD-4819-8458-AB4E3518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0EA-FF8E-485E-A3A4-442242BF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9B21-9FE4-45EA-B26C-94D762C9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3276-47B0-4A29-83D2-8489E117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3650-51DD-4B9D-9378-4C3B07B1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A217-3DF4-4BE1-B5B8-E85AC850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9133-98D4-4808-9FD1-01CFD996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7C93-C3DF-4131-BE34-C5F46F4A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42C9-A0CF-4F36-AF56-2FA50952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F6073-FBF7-40D4-BEBF-D0B1A27A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6BBD-7B7A-4A84-90B3-7443E967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4BE0-A23C-4CC9-A142-BE2875C5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5AD-A202-4BC6-B795-125DA934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B2E8C-3AD5-4B0D-BDFE-421B212E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0F106-A2F4-43E0-A53B-F1E2C88A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D799-5B84-468D-846D-FD31441C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9FB38-0868-4E7A-ADBD-F0D06FB6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7DBFD-1807-4C09-B70D-FA2AE353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A151-0841-402E-86A0-560C86FE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59A2-7A1D-471E-9ADE-83258191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3AED8-E737-4C8A-8329-6B044594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BE6F3-7EF2-42C7-8DCC-44E0CA07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DC3EC-E66C-4852-BBA5-C35D67EF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018-F92E-4D2C-A156-34F232E4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DE3B-08A4-4CED-A788-554DDD1F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A28A8-FFD2-47C6-8394-20B3C7E7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AA928-3B25-4F8F-B6C6-2AE26C0E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010A-501C-4E1C-A7C2-CF1EB71E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4249B-5405-4611-907C-371DC6DE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3F948-6762-48B4-8987-0E7D9CA1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78329-D5F5-415E-A598-CDA0C9CD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0FB9B-5507-4B28-AE58-3C19296B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73861-22C2-47C5-A721-1215BD9E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CA0-76D4-4A27-863C-36A2F27A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980-896D-4C62-ADB5-5D84B5ED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D31-F778-4ABA-B6CF-E0EC5C0B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C66-5368-476D-85C9-05C61EE1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A60-966C-44DD-B334-930B87F9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0401-0A09-4EBD-881B-38C7AF898905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A9BA-93DF-4418-B823-38D18F0781E8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FC67-F55E-4BD6-9450-99BA129CEA69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1B90-2506-4CF5-BCBE-169A096F792B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05640" cy="1895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CREATIVIDAD E INNOVACION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RETOS DEL FUTUR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onstantia"/>
              </a:rPr>
              <a:t>San Sebastián 4 - 8 Mayo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13" descr="fon-cabe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4617b"/>
                </a:solidFill>
                <a:latin typeface="Verdana"/>
                <a:ea typeface="Verdana"/>
              </a:rPr>
              <a:t>PAÍS VASC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004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omunidades de aprendizaje (25 centr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Transformación de todo el centro: Para incrementar el aprendizaje y buscando el éxito para tod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Transformación-Interacción-Participación-Form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Fases: Sueño, elección de prioridades, comisiones mixtas, plan de trabajo,.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Innovaciones en el aul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Tertulias dialógicas literarias con alumnado y famili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Grupos interactivos con voluntari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ratos de aprendizaj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Medidas inclusivas en el aula y en el cent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Verdana"/>
                <a:ea typeface="Verdana"/>
              </a:rPr>
              <a:t>www.jardunaldiak.n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Verdana"/>
                <a:ea typeface="Verdana"/>
              </a:rPr>
              <a:t>www.ikas.k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4617b"/>
                </a:solidFill>
                <a:latin typeface="Verdana"/>
                <a:ea typeface="Verdana"/>
              </a:rPr>
              <a:t>ARAGÓ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8584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ESO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Pro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TablePC  (Cada alumno tiene un ordenador asignado por el centro y trabaja en algún momento con el ordenador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Bilinguismo catalán (en cada nivel dan una asignatur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ICLOS FORMATIVOS: Programa bilingüe en inglé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Asignatura inglés en 1° y 2° (5h en cada curs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Una asignatura troncal en 1° (6h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Una asignatura troncal en 2° (9h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Programa ERASMUS: Prácticas en Belgi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Sistema de gestión de cal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ENT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Promotor de la salu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Programa de Bibliotecas esco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Verdana"/>
                <a:ea typeface="Verdana"/>
              </a:rPr>
              <a:t>www.iesbajocinca.or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4617b"/>
                </a:solidFill>
                <a:latin typeface="Verdana"/>
                <a:ea typeface="Verdana"/>
              </a:rPr>
              <a:t>ISLAS BALEA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COMUNIDAD AUTÓNOM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UNE-EN ISO 9001:2000, SISTEMAS DE GESTIÓN DE CALIDAD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Proyecto ALTER: Alumnado con exclusión educativa para introducirlo en el mundo labor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CENTRO EDUCATIVO (IES JOSEP MIQUEL GUÀRDIA-ALAIOR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Proyectos basados en la calidad dentro del aula no en la gestión de la calidad fuera del aula: EJEMPLO: Proyecto intervención educativa (PIE): Reducir las ratios de las clases aumentando las horas lectivas del profesorado. Resultados: Menos fracaso y menos conflictividad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Abandono de la utilización de libros en bachillerato y utilizar la plataforma moodle. Compra de un ordenador portátil a cambio de la compra de los libros de texto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Verdana"/>
                <a:ea typeface="Verdana"/>
              </a:rPr>
              <a:t>www.iqpib.caib.es/user/info/index.htm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Verdana"/>
                <a:ea typeface="Verdana"/>
              </a:rPr>
              <a:t>www.xtec.ca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Verdana"/>
                <a:ea typeface="Verdana"/>
              </a:rPr>
              <a:t>www.weib.caib.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78604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Verdana"/>
                <a:ea typeface="Verdana"/>
              </a:rPr>
              <a:t>EN QUE NOS FORMAMOS…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0" y="642960"/>
            <a:ext cx="91440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Verdana"/>
                <a:ea typeface="Verdana"/>
              </a:rPr>
              <a:t>GENERALIZAND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A través de las diferentes CONSEJERÍAS AUTÓNOMICAS, INSTITUCIONES PRIVADAS Y PÚBLICAS en general. Tanto a través de la formación presencial como on-lin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Verdana"/>
                <a:ea typeface="Verdana"/>
              </a:rPr>
              <a:t>CONCRETAND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Formación en centros: Gestionados directamente por el propio centro. </a:t>
            </a:r>
            <a:r>
              <a:rPr b="1" lang="de-DE" sz="1600" spc="-1" strike="noStrike">
                <a:solidFill>
                  <a:srgbClr val="02303e"/>
                </a:solidFill>
                <a:latin typeface="Verdana"/>
                <a:ea typeface="Verdana"/>
              </a:rPr>
              <a:t>(País Vas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Grupos de trabajo y seminarios: </a:t>
            </a:r>
            <a:r>
              <a:rPr b="1" lang="de-DE" sz="1600" spc="-1" strike="noStrike">
                <a:solidFill>
                  <a:srgbClr val="02303e"/>
                </a:solidFill>
                <a:latin typeface="Verdana"/>
                <a:ea typeface="Verdana"/>
              </a:rPr>
              <a:t>Austria y Españ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Congresos y seminarios: Con una SUPERVISIÓN PERSONALIZADAS (</a:t>
            </a:r>
            <a:r>
              <a:rPr b="1" lang="de-DE" sz="1600" spc="-1" strike="noStrike">
                <a:solidFill>
                  <a:srgbClr val="02303e"/>
                </a:solidFill>
                <a:latin typeface="Verdana"/>
                <a:ea typeface="Verdana"/>
              </a:rPr>
              <a:t>Alemania Baden-Wurttenberg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Verdana"/>
              </a:rPr>
              <a:t>Cursos extraordinarios de tipo laboratorio sobre métodos de enseñanza  que promueven la creatividad y la innovación. En una primera fase de los seminarios serán invitados especialistas de Chipre y del extranjero. En una segunda fase los profesores que tomen parte en los seminarios aplicarán en la práctica los métodos aprendidos. </a:t>
            </a:r>
            <a:r>
              <a:rPr b="1" lang="es-AR" sz="1600" spc="-1" strike="noStrike">
                <a:solidFill>
                  <a:srgbClr val="02303e"/>
                </a:solidFill>
                <a:latin typeface="Verdana"/>
                <a:ea typeface="Verdana"/>
              </a:rPr>
              <a:t>(Chipre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Verdana"/>
              </a:rPr>
              <a:t>Puesta al día de la Universidad de Chipre y de otras Universidades sobre los objetivos concretos de sus programas. (</a:t>
            </a:r>
            <a:r>
              <a:rPr b="1" lang="es-AR" sz="1600" spc="-1" strike="noStrike">
                <a:solidFill>
                  <a:srgbClr val="02303e"/>
                </a:solidFill>
                <a:latin typeface="Verdana"/>
                <a:ea typeface="Verdana"/>
              </a:rPr>
              <a:t>Chipre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Verdana"/>
              </a:rPr>
              <a:t>Participación de inspectores y de maestros en los seminarios del Instituto Pedagógico de Chipre para la creación de núcleos que actúen como multiplicadores en la difusión del conocimiento en todo el personal docente </a:t>
            </a:r>
            <a:r>
              <a:rPr b="1" lang="es-AR" sz="1600" spc="-1" strike="noStrike">
                <a:solidFill>
                  <a:srgbClr val="02303e"/>
                </a:solidFill>
                <a:latin typeface="Verdana"/>
                <a:ea typeface="Verdana"/>
              </a:rPr>
              <a:t>(Chipre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7120" y="2786040"/>
            <a:ext cx="87868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Verdana"/>
                <a:ea typeface="Verdana"/>
              </a:rPr>
              <a:t>MATERIALES Y RECURSOS UTILIZADO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856800"/>
            <a:ext cx="804384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CURSOS MATERI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l margen de los convencionales destacam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DA (Control de asistencia para el alumnad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boratorio fotográ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WEB 2.0 (Blogs, Moodle, …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izarra electrón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des interrelacionadas entre cent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28800"/>
            <a:ext cx="79725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CURSOS HUMA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ibliotecas escolares tutoriz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lexibilizar el horario profesi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corporación de expertos profes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ntabilizar los conocimientos profesionales y personales a/de toda la comunidad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teracción con el entorno laboral y socioeducat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oluntariad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7120" y="2786040"/>
            <a:ext cx="87868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Verdana"/>
                <a:ea typeface="Verdana"/>
              </a:rPr>
              <a:t>VALORACIÓN…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50004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Verdana"/>
                <a:ea typeface="Verdana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Valoración.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 Muy efectiva. Muy cercana. Marco incomparable. Alojamiento perfecto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ugerenci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.- Conocer previamente los asistentes y el motivos de su participació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PROGRAMA DEL SEMIN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Valoraci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.- Muy positiva. Una visión muy completa de lo que se hace en el Estado Español. Con personas muy competentes en sus disciplin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ugerenci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.- Entrega del material didáctico previa a la present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Verdana"/>
              </a:rPr>
              <a:t>Reducir el número de ponencias e incrementar el intercambio de experiencias entre los asisten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77868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1a1585"/>
                </a:solidFill>
                <a:latin typeface="Verdana"/>
                <a:ea typeface="Verdana"/>
              </a:rPr>
              <a:t>        </a:t>
            </a:r>
            <a:r>
              <a:rPr b="1" lang="de-DE" sz="5000" spc="-1" strike="noStrike">
                <a:solidFill>
                  <a:srgbClr val="ff0000"/>
                </a:solidFill>
                <a:latin typeface="Verdana"/>
                <a:ea typeface="Verdana"/>
              </a:rPr>
              <a:t>GRUPO II</a:t>
            </a:r>
            <a:r>
              <a:rPr b="0" lang="de-DE" sz="5000" spc="-1" strike="noStrike">
                <a:solidFill>
                  <a:srgbClr val="04617b"/>
                </a:solidFill>
                <a:latin typeface="Verdana"/>
                <a:ea typeface="Verdana"/>
              </a:rPr>
              <a:t> </a:t>
            </a:r>
            <a:r>
              <a:rPr b="0" lang="de-DE" sz="5000" spc="-1" strike="noStrike">
                <a:solidFill>
                  <a:srgbClr val="04617b"/>
                </a:solidFill>
                <a:latin typeface="Verdana"/>
                <a:ea typeface="Verdana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26560" y="1844640"/>
            <a:ext cx="7859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  <p:sp>
        <p:nvSpPr>
          <p:cNvPr id="208" name="4 Rectángulo"/>
          <p:cNvSpPr/>
          <p:nvPr/>
        </p:nvSpPr>
        <p:spPr>
          <a:xfrm>
            <a:off x="3714840" y="1571760"/>
            <a:ext cx="4786200" cy="928440"/>
          </a:xfrm>
          <a:prstGeom prst="rect">
            <a:avLst/>
          </a:prstGeom>
          <a:solidFill>
            <a:srgbClr val="b0dfa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ALEMAN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GÜNTER SAUT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5 Rectángulo"/>
          <p:cNvSpPr/>
          <p:nvPr/>
        </p:nvSpPr>
        <p:spPr>
          <a:xfrm>
            <a:off x="1143000" y="4143240"/>
            <a:ext cx="6500880" cy="2500560"/>
          </a:xfrm>
          <a:prstGeom prst="rect">
            <a:avLst/>
          </a:prstGeom>
          <a:solidFill>
            <a:srgbClr val="b0dfa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ESPAÑ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Mª SOLEDAD CABRERA LIVI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DAVID FONT MAMP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ENRIQUE D. RIOS G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PRUDENCIO ROBAINA BRI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MARTA ZURIMEND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6 Rectángulo"/>
          <p:cNvSpPr/>
          <p:nvPr/>
        </p:nvSpPr>
        <p:spPr>
          <a:xfrm>
            <a:off x="0" y="2643120"/>
            <a:ext cx="5143680" cy="1071720"/>
          </a:xfrm>
          <a:prstGeom prst="rect">
            <a:avLst/>
          </a:prstGeom>
          <a:solidFill>
            <a:srgbClr val="b0dfa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303e"/>
                </a:solidFill>
                <a:latin typeface="Verdana"/>
              </a:rPr>
              <a:t>CHIP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MARINA STERGID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7 Rectángulo"/>
          <p:cNvSpPr/>
          <p:nvPr/>
        </p:nvSpPr>
        <p:spPr>
          <a:xfrm>
            <a:off x="4643280" y="2857680"/>
            <a:ext cx="4143600" cy="1071360"/>
          </a:xfrm>
          <a:prstGeom prst="rect">
            <a:avLst/>
          </a:prstGeom>
          <a:solidFill>
            <a:srgbClr val="b0dfa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303e"/>
                </a:solidFill>
                <a:latin typeface="Verdana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2303e"/>
                </a:solidFill>
                <a:latin typeface="Verdana"/>
                <a:ea typeface="Verdana"/>
              </a:rPr>
              <a:t>GABRIELE BRAND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1 Imagen" descr="IMG_1134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2960" y="2786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Verdana"/>
                <a:ea typeface="Verdana"/>
              </a:rPr>
              <a:t>QUE HACEMOS…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500" spc="-1" strike="noStrike">
                <a:solidFill>
                  <a:srgbClr val="ff0000"/>
                </a:solidFill>
                <a:latin typeface="Verdana"/>
                <a:ea typeface="Verdana"/>
              </a:rPr>
              <a:t>ALEMANIA</a:t>
            </a:r>
            <a:r>
              <a:rPr b="0" lang="de-DE" sz="32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br>
              <a:rPr sz="3200"/>
            </a:br>
            <a:r>
              <a:rPr b="0" lang="de-DE" sz="4500" spc="-1" strike="noStrike">
                <a:solidFill>
                  <a:srgbClr val="7b9899"/>
                </a:solidFill>
                <a:latin typeface="Verdana"/>
                <a:ea typeface="Verdana"/>
              </a:rPr>
              <a:t>BADEN-WÜRTTEMBERG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200016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Curriculum 2004: Enseñanza y aprendizaje futur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spcAft>
                <a:spcPts val="400"/>
              </a:spcAft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spcAft>
                <a:spcPts val="400"/>
              </a:spcAft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Autonomía para desarrollar objetivos diferentes por centros pero con unos estandares míninos y con pruebas centralizada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Pensamos que competencias han de desarrollar y después buscamos los contenidos que nos conducen a las competencias deseada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La enseñanza: proceso permanente y evaluad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Autoevaluación centro: profesores, familias y alumno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Evaluación externa: básica para formular objetivos que serán autoevaluados en el próximo ciclo de evalu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Formación profesorado: en metodología innovadora, técnica de evaluación, trabajo Porfolio y feedback para mejorar la comunicación interna y extern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Verdana"/>
                <a:ea typeface="Verdana"/>
              </a:rPr>
              <a:t>www.km-bw.d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Verdana"/>
                <a:ea typeface="Verdana"/>
              </a:rPr>
              <a:t>www.evalution-bw.d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  <p:sp>
        <p:nvSpPr>
          <p:cNvPr id="218" name="4 Triángulo isósceles"/>
          <p:cNvSpPr/>
          <p:nvPr/>
        </p:nvSpPr>
        <p:spPr>
          <a:xfrm>
            <a:off x="4071960" y="2643120"/>
            <a:ext cx="46080" cy="7164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5 Diagrama" descr=""/>
          <p:cNvPicPr/>
          <p:nvPr/>
        </p:nvPicPr>
        <p:blipFill>
          <a:blip r:embed="rId2"/>
          <a:stretch/>
        </p:blipFill>
        <p:spPr>
          <a:xfrm>
            <a:off x="1542960" y="706320"/>
            <a:ext cx="6107040" cy="4097520"/>
          </a:xfrm>
          <a:prstGeom prst="rect">
            <a:avLst/>
          </a:prstGeom>
          <a:ln w="0">
            <a:noFill/>
          </a:ln>
        </p:spPr>
      </p:pic>
      <p:sp>
        <p:nvSpPr>
          <p:cNvPr id="220" name="6 Cara sonriente"/>
          <p:cNvSpPr/>
          <p:nvPr/>
        </p:nvSpPr>
        <p:spPr>
          <a:xfrm>
            <a:off x="8072280" y="2857680"/>
            <a:ext cx="500400" cy="500040"/>
          </a:xfrm>
          <a:prstGeom prst="smileyFace">
            <a:avLst>
              <a:gd name="adj" fmla="val 928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Verdana"/>
                <a:ea typeface="Verdana"/>
              </a:rPr>
              <a:t>AUST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57120" y="1000080"/>
            <a:ext cx="8425080" cy="60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bd0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yecto Comenius Flowerpower (FLO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etende analizar el cambio que se produce en la actitud de los alumno cuando el proceso de enseñanza-aprendizaje se realiza fuera del aula. Aprender fuera del aula utilizando todos los senti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 basa en tener un mayor contacto con la naturalza, utilizando los cuatro elementos: agua, tierra, aire y fue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manalmente se formula un cuestionario para saber si se produce un cambio en su actitud cuendo el alumno está fuera del cent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fecta  a los niveles: Jardín de Infancia, Primaria y Secunda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ises participantes: Chequia, Hungria, Rumanía, Turquía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tria.       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dioma: Inglé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bd0d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fesor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u papel está visto como acompañante del alumn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nseñanza basada en el dialogo y apoyo individ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l desarrollo de la creatividad por medio de pedagogía teatral  y JEUX DRAMATIQUES  tienen un papel muy importante en los procesos de aprendiza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Verdana"/>
                <a:ea typeface="Verdana"/>
              </a:rPr>
              <a:t>CHIPR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57120" y="1428840"/>
            <a:ext cx="87868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ACCIONES AL MÁS ALTO NI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Apoyo a la investigación desde la infancia hasta la Universida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Desarrollo de herramientas de diagnóstico que permitan identificar los individuos creado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Fortalecimiento de la investigación que favorezca el desarrollo de métodos y prácticas educativas que apoyen, promuevan y desarrollen la creatividad en las diferentes edad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Verdana"/>
              </a:rPr>
              <a:t>CENTROS EDUCAT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Aplicación de la creatividad en el au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Día de la creatividad y exposiciones a nivel escolar y naciona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Promoción de la labor innovadora de los estudiantes en genera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Promoción de los programas de aprendizaje permanen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junción entre escuela y empresa y apertura a investigadores y creadores de reconocido prestigi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Utilizar la multiculturalidad de las aulas y en las aul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Las materias programan acciones encaminadas a mejorar el aprendizaje creativo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de-DE" sz="1800" spc="-1" strike="noStrike">
                <a:solidFill>
                  <a:srgbClr val="ff0000"/>
                </a:solidFill>
                <a:latin typeface="Verdana"/>
                <a:ea typeface="Verdana"/>
              </a:rPr>
              <a:t>Mas informac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Verdana"/>
                <a:ea typeface="Verdana"/>
              </a:rPr>
              <a:t>www.moec.gov.cy/2009_dimiourgikotita_kainotomia/index.htm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  <p:pic>
        <p:nvPicPr>
          <p:cNvPr id="228" name="7 Diagrama" descr=""/>
          <p:cNvPicPr/>
          <p:nvPr/>
        </p:nvPicPr>
        <p:blipFill>
          <a:blip r:embed="rId2"/>
          <a:stretch/>
        </p:blipFill>
        <p:spPr>
          <a:xfrm>
            <a:off x="1279440" y="1481040"/>
            <a:ext cx="610884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de-DE" sz="4400" spc="-1" strike="noStrike">
                <a:solidFill>
                  <a:srgbClr val="ff0000"/>
                </a:solidFill>
                <a:latin typeface="Verdana"/>
                <a:ea typeface="Verdana"/>
              </a:rPr>
              <a:t>ESPAÑA</a:t>
            </a:r>
            <a:br>
              <a:rPr sz="4800"/>
            </a:br>
            <a:r>
              <a:rPr b="1" lang="de-DE" sz="4400" spc="-1" strike="noStrike">
                <a:solidFill>
                  <a:srgbClr val="04617b"/>
                </a:solidFill>
                <a:latin typeface="Verdana"/>
                <a:ea typeface="Verdana"/>
              </a:rPr>
              <a:t>CA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428760" y="1571760"/>
            <a:ext cx="84247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f6fc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Proyecto Europe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. Interculturalidad: El corazón de las escuelas europeas.  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Duració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2 añ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Paises participante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Escocia, Chipre, Letonia y Españ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Objetiv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Reforzar la dimensión europea en la enseñanza y compartir experiencias y métodos encaminados a fomentar la inclusión y la diversidad cultural entre el alumn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Procedimient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* Mediante el intercambio de actividades sobre literatura y métodos para promover valores comunes con los países participant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Intercambio de profesores y alumnos para compatir actividades comu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Proyect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  Intercambio de alumnos entre España y Aleman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www.iesmesaylopez.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4617b"/>
                </a:solidFill>
                <a:latin typeface="Verdana"/>
                <a:ea typeface="Verdana"/>
              </a:rPr>
              <a:t>MURC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468360" y="1571760"/>
            <a:ext cx="842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4617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yecto de I+D-I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asado en un sistema digital de almacenamiento de programaciones por internet. Se estudia el grado de avance en las desviaciones, sus modificaciones y  logros, unificación de contenidos y su seguimiento y contro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stión del conocimento profesional docente: Compartir en este programa todos los materiales que tenem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gramaciones con un hipervínculo que nos traslada a los materiales que se pueden utilizar en la cl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stión de instrumentos de medir los objetivos plante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rticipa: IES LA FLOTA-UNIVERSIDAD (Facultades de Informàtica y Educ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lazo de presentación: Fina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www.ieslaflota.es(calidad@ieslaflota.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3" descr="fon-cabe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65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4:23:45Z</dcterms:created>
  <dc:creator>Sauter</dc:creator>
  <dc:description/>
  <dc:language>en-US</dc:language>
  <cp:lastModifiedBy>Valued Acer Customer</cp:lastModifiedBy>
  <dcterms:modified xsi:type="dcterms:W3CDTF">2009-05-08T06:32:59Z</dcterms:modified>
  <cp:revision>92</cp:revision>
  <dc:subject/>
  <dc:title>CREATIVIDAD E INNOVACIÓN: RETOS DE FUTURO</dc:title>
</cp:coreProperties>
</file>