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A3E3F-2227-402F-8A31-0F67436AC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43280" y="3357720"/>
            <a:ext cx="630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Iniciativas, formación y materiales para la Innovación Educativa y la Creativida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APORTACIONES DEL GRUPO Nº 1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84360" y="1052640"/>
            <a:ext cx="630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rebuchet MS"/>
              </a:rPr>
              <a:t>Curso Innovación y creatividad: RETOS DEL FUTUR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88920">
              <a:lnSpc>
                <a:spcPct val="100000"/>
              </a:lnSpc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rebuchet MS"/>
              </a:rPr>
              <a:t>San Sebastian, mayo de 2009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87280" y="3715920"/>
            <a:ext cx="583092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988920" indent="-53172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7510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208240" indent="-379440">
              <a:lnSpc>
                <a:spcPct val="104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208240" indent="-37944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2777040" y="3213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tenid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64360"/>
            <a:ext cx="9144000" cy="620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-152640"/>
            <a:ext cx="7775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81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Wingdings 2" charset="2"/>
              <a:buChar char="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99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468000" y="6381360"/>
            <a:ext cx="59022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rso Innovacion y Creatividad. San Sebastian, mayo 2009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sc-artemelilla.es/" TargetMode="External"/><Relationship Id="rId6" Type="http://schemas.openxmlformats.org/officeDocument/2006/relationships/hyperlink" Target="http://www.esc-artemelilla.es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hezkuntza.ejgv.euskadi.net/" TargetMode="External"/><Relationship Id="rId7" Type="http://schemas.openxmlformats.org/officeDocument/2006/relationships/hyperlink" Target="http://www.hezkuntza.ejgv.euskadi.net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" TargetMode="External"/><Relationship Id="rId3" Type="http://schemas.openxmlformats.org/officeDocument/2006/relationships/hyperlink" Target="http://blog.educastur.es/" TargetMode="External"/><Relationship Id="rId4" Type="http://schemas.openxmlformats.org/officeDocument/2006/relationships/hyperlink" Target="http://blog.educastur.es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ducastur.es/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.educastur.es/luciaag/" TargetMode="External"/><Relationship Id="rId3" Type="http://schemas.openxmlformats.org/officeDocument/2006/relationships/hyperlink" Target="http://blog.educastur.es/luciaag/" TargetMode="External"/><Relationship Id="rId4" Type="http://schemas.openxmlformats.org/officeDocument/2006/relationships/hyperlink" Target="http://blog.educastur.es/lechuzaminerva/" TargetMode="External"/><Relationship Id="rId5" Type="http://schemas.openxmlformats.org/officeDocument/2006/relationships/hyperlink" Target="http://blog.educastur.es/lechuzaminerva/" TargetMode="External"/><Relationship Id="rId6" Type="http://schemas.openxmlformats.org/officeDocument/2006/relationships/hyperlink" Target="http://blog.educastur.es/lechuzaminerva/" TargetMode="External"/><Relationship Id="rId7" Type="http://schemas.openxmlformats.org/officeDocument/2006/relationships/hyperlink" Target="http://blog.educastur.es/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" TargetMode="External"/><Relationship Id="rId3" Type="http://schemas.openxmlformats.org/officeDocument/2006/relationships/hyperlink" Target="http://campus.educastur.es/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hyperlink" Target="http://campus.educastur.es/" TargetMode="External"/><Relationship Id="rId4" Type="http://schemas.openxmlformats.org/officeDocument/2006/relationships/hyperlink" Target="http://campus.educastur.es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ampus.educastur.es/course/view.php?id=649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ampus.educastur.es/course/view.php?id=38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campus.educastur.es/course/view.php?id=216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xtec.cat/crp-girones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ducastur.es/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dgidc.min-edu.pt/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schule-bw.de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dumanager.ro/" TargetMode="External"/><Relationship Id="rId5" Type="http://schemas.openxmlformats.org/officeDocument/2006/relationships/hyperlink" Target="http://www.edu.ro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oigirona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ESPAÑA. MELILL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centro de la Escuela de Arte Miguel Marmolejo, con 2 Líneas de trabaj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1.- Fomentar la creatividad del alumnado, a partir de diferentes iniciativas en todos los departament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Dibujo artístico, construir a partir de imágenes, una obra distinta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rabajo en Internet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Talleres en creatividad en Lengua, Plástica... Customizando con Africa... (todo el centro trabaja en torno al tema de Áfr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2.- Proyecto de Innovación: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Programa de gestión de calidad del centro a través de la Web. 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733680" indent="-281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rebuchet MS"/>
              </a:rPr>
              <a:t>Se suprimen los documentos en papel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sc-ar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temelilla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SPAÑA. PAIS VASCO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grama de líneas prioritarias de Innovación Educativa 2007/2010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Se estructura en tres ejes: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omentar la inclusividad,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jorar la calidad de la escuel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a modernidad: una escuela para el S. XX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Cada eje sigue unas 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líneas</a:t>
            </a: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 prioritarias, y cada línea, uno o varios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Ejemplos de programas que se ponen en marcha: Educación intercultural. Proceso de liderazgo, éxito escolar, convivencia, nuevos tecnologías, desarrollo sostenible, tratamiento integrado de lenguas…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www.hez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kuntza.ejgv.euskadi.ne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19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rebuchet MS"/>
              </a:rPr>
              <a:t>Proyectos de Innovación: convocatori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ESPAÑA. CANARIA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 Proyectos de centro. IES de La Matanza. Tenerif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Fomento de la Lectura: Proyecto integral de bibliotecas a través de la lectur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dedica 1 hora semanal a leer en clase y se comentan las lecturas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a hora se alterna para que no le toque siempre ni al mismo grupo ni en la misma asignatura. Son lecturas programadas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iempre es el mismo día de la semana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e proyecto está bastante extendido en la isla, debido al éxito del proyecto, que comenzó en este centro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Hay un coordinador del proyecto en cada centro. Proyecto de astronomía: observación de las estrellas. Salida regular de identificar constelaciones, etc. Enlace web. 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Biblioteca escolar sólo con contenidos canarios, con más de 3.000 ejemplares de contenido únicamente canario. Fomenta contenidos interesantes para la comunidad y reforzar la identidad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 Proyecto de astronomía: observación de las estrellas. Salida regular para identificar constelaciones, etc. 4º de la ESO y 1º Bachillerat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www.gobiernodecanarias.org/educacion/9/Usr/ieslamatanz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7000" y="1955880"/>
            <a:ext cx="4572000" cy="3214440"/>
          </a:xfrm>
          <a:prstGeom prst="ellipse">
            <a:avLst/>
          </a:prstGeom>
          <a:noFill/>
          <a:ln w="114480">
            <a:solidFill>
              <a:srgbClr val="ff9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117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227640" y="2924280"/>
            <a:ext cx="2050560" cy="1069920"/>
            <a:chOff x="6227640" y="2924280"/>
            <a:chExt cx="2050560" cy="1069920"/>
          </a:xfrm>
        </p:grpSpPr>
        <p:sp>
          <p:nvSpPr>
            <p:cNvPr id="158" name=""/>
            <p:cNvSpPr/>
            <p:nvPr/>
          </p:nvSpPr>
          <p:spPr>
            <a:xfrm>
              <a:off x="7334640" y="3325320"/>
              <a:ext cx="943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0080ff"/>
                  </a:solidFill>
                  <a:latin typeface="Arial"/>
                  <a:ea typeface="Arial"/>
                </a:rPr>
                <a:t>Familia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227640" y="2924280"/>
              <a:ext cx="9727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902040" y="1116000"/>
            <a:ext cx="1306440" cy="1382400"/>
            <a:chOff x="3902040" y="1116000"/>
            <a:chExt cx="1306440" cy="1382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098600" y="1534320"/>
              <a:ext cx="946440" cy="9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902040" y="1116000"/>
              <a:ext cx="130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8000"/>
                  </a:solidFill>
                  <a:latin typeface="Arial"/>
                  <a:ea typeface="Arial"/>
                </a:rPr>
                <a:t>Estudiant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11360" y="4537080"/>
            <a:ext cx="2470680" cy="1372680"/>
            <a:chOff x="3411360" y="4537080"/>
            <a:chExt cx="2470680" cy="13726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4034880" y="4537080"/>
              <a:ext cx="106128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411360" y="5650200"/>
              <a:ext cx="247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ntros e instituciones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63680" y="2847960"/>
            <a:ext cx="2453760" cy="1150920"/>
            <a:chOff x="463680" y="2847960"/>
            <a:chExt cx="2453760" cy="115092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1910160" y="2847960"/>
              <a:ext cx="1007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3680" y="3293280"/>
              <a:ext cx="135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952560"/>
                  <a:tab algn="l" pos="1866960"/>
                  <a:tab algn="l" pos="2781360"/>
                  <a:tab algn="l" pos="3695760"/>
                  <a:tab algn="l" pos="4610160"/>
                  <a:tab algn="l" pos="5524560"/>
                  <a:tab algn="l" pos="6438960"/>
                  <a:tab algn="l" pos="7353360"/>
                  <a:tab algn="l" pos="8267760"/>
                  <a:tab algn="l" pos="9182160"/>
                  <a:tab algn="l" pos="10096560"/>
                  <a:tab algn="l" pos="10333080"/>
                  <a:tab algn="l" pos="10782360"/>
                </a:tabLst>
              </a:pPr>
              <a:r>
                <a:rPr b="1" lang="en-US" sz="1700" spc="-1" strike="noStrike">
                  <a:solidFill>
                    <a:srgbClr val="149914"/>
                  </a:solidFill>
                  <a:latin typeface="Arial"/>
                  <a:ea typeface="Arial"/>
                </a:rPr>
                <a:t>Profesorado</a:t>
              </a:r>
              <a:endParaRPr b="0" lang="en-US" sz="17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635280" y="3213000"/>
            <a:ext cx="2152800" cy="39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20" y="105264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PAÑA. ASTURI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0" presetSubtype="1040565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Blog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Blog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s otra iniciativa del Área del Portal Educastur y Servicios Educativos en Línea y es accesible mediante navegación web en la direc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 algn="ctr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blog.educastur.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Ofrece a los usuarios (alumnado y profesorado) con identidad digital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Educastur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un espacio para la publicación de contenidos educativos en la web utilizando el formato de blog o bitácor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4835520" y="907920"/>
            <a:ext cx="4308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Usuarios de Educastur Blo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100"/>
              </a:spcAft>
              <a:buSzPct val="12852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fesorado y alumnado con </a:t>
            </a:r>
            <a:r>
              <a:rPr b="0" lang="en-US" sz="2400" spc="-1" strike="noStrike">
                <a:solidFill>
                  <a:srgbClr val="009900"/>
                </a:solidFill>
                <a:latin typeface="Trebuchet MS"/>
              </a:rPr>
              <a:t>identidad digital “Educastur”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pertenecientes a los centros de enseñanza de la Consejería de Educación y Ciencia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5003640" cy="2959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3141720"/>
            <a:ext cx="381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uesta en marcha del servicio: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enero de 2007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4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140.000 usuari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potenci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5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9.641 usuarios registrado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1749"/>
              </a:spcAft>
              <a:buSzPct val="102792"/>
              <a:buBlip>
                <a:blip r:embed="rId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n la actualidad hay </a:t>
            </a:r>
            <a:r>
              <a:rPr b="0" lang="en-US" sz="2000" spc="-1" strike="noStrike">
                <a:solidFill>
                  <a:srgbClr val="009900"/>
                </a:solidFill>
                <a:latin typeface="Trebuchet MS"/>
              </a:rPr>
              <a:t>3.215 blogs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 registrad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ontexto educativo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23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81360" tIns="46800" bIns="46800" anchor="t">
            <a:normAutofit/>
          </a:bodyPr>
          <a:p>
            <a:pPr marL="54612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1"/>
              </a:buBlip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tre los posibles usos educativos del blog se podrían destacar por su tamática y tipología los siguiente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933480" indent="-4366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Trebuchet MS"/>
              <a:buAutoNum type="arabicPeriod"/>
              <a:tabLst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rebuchet MS"/>
              </a:rPr>
              <a:t>Publicación de contenidos y materiales por parte de un profesor o departamento como apoyo a su labor docente cotidian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lvl="1" marL="933480" indent="0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1116000"/>
                <a:tab algn="l" pos="2030400"/>
                <a:tab algn="l" pos="2944800"/>
                <a:tab algn="l" pos="3859200"/>
                <a:tab algn="l" pos="4773600"/>
                <a:tab algn="l" pos="5688000"/>
                <a:tab algn="l" pos="6602400"/>
                <a:tab algn="l" pos="7516800"/>
                <a:tab algn="l" pos="8431200"/>
                <a:tab algn="l" pos="9345600"/>
                <a:tab algn="l" pos="102600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573360"/>
            <a:ext cx="37083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jempl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2"/>
              </a:rPr>
              <a:t>Las TIC e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3"/>
              </a:rPr>
              <a:t>Plást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4"/>
              </a:rPr>
              <a:t>La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5"/>
              </a:rPr>
              <a:t>Lechuz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6"/>
              </a:rPr>
              <a:t> de Minerv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MS Gothic"/>
                <a:hlinkClick r:id="rId7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0" y="2997360"/>
            <a:ext cx="536400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l proyecto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Educastur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 campus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a iniciativa de innovación tecnológica y educativa ofrecida a la comunidad docente del Principado de Asturia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411280" y="292428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95800" y="1557360"/>
            <a:ext cx="4048200" cy="3587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os recursos contenidos en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Educastu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 Campu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e publican bajo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licencia Creative Commons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reado y desarrollado en Moodl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lgunos permiten entrada de visitantes anónimos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SzPct val="1028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En otros el usuario deberá autentificarse por medio de la identidad digital asociada a la </a:t>
            </a:r>
            <a:r>
              <a:rPr b="0" lang="en-US" sz="2800" spc="-1" strike="noStrike">
                <a:solidFill>
                  <a:srgbClr val="009900"/>
                </a:solidFill>
                <a:latin typeface="Trebuchet MS"/>
              </a:rPr>
              <a:t>Comunidad Educastur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siendo necesario que previamente el autor o profesor responsable les conceda autorización de acceso.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Educastur Campus 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751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imaria: Conocimiento del Medi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Gorilas. El despertar de la conciencia ecológica.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O: Física y Quím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La corriente eléctric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achillerato: Matemática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Concepto Derivada</a:t>
            </a:r>
            <a:endParaRPr b="0" lang="en-US" sz="2000" spc="-1" strike="noStrike">
              <a:solidFill>
                <a:srgbClr val="000099"/>
              </a:solidFill>
              <a:latin typeface="Trebuchet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076720" y="1989000"/>
            <a:ext cx="3959280" cy="293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81080" y="9079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987280" y="3715920"/>
            <a:ext cx="583236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a formación del profesorad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os materiales y recursos didáctico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0840" indent="-330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aloración del Seminario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3.- Formación del Profesorado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uestiones previas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Hay mucha oferta de formación a todos los niveles, pero no todo es útil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Reivindicamos la formación en horario lectivo (El País vasco, tiene buenos ejemplos).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Diferencias entre países y entre comunidades en España: Sexenios sí o no, formación voluntaria u obligatoria, etc. La formación valor de cambio: currículum, ascensos…</a:t>
            </a:r>
            <a:endParaRPr b="0" lang="en-US" sz="18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inicial: Variedad de situaciones: desde el CAP español al caso de Alemania, que tienen un curso específico (training) de 2 años de duración. (Medio año durante los estudios, y año 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y medio al acabar los estudios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Formación permanente: Variedad de oferta, no toda adaptada ni de calidad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Casuísticas variadas: Portugal. 25 horas anuales de formación obligatoria, la mitad de pedagogía, y la otra mitad sobre su propia asignatura. Cada dos años el profesorado es evaluado. Sirve para la promoción del profesorado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tuaciones especialmente relevantes: PALE, coordinadores TIC, Plan 18-30, Plan G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atu, etc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por tema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ww.xtec.cat/crp-giron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castur.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bildung-staerkt-menschen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schule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i-punkt-projekt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www.leu.bw.schule.d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Líneas Prioritarias y Proyectos de Innovación Educativ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FORMACIÓN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erfeccionamiento del Profesorado: GARATU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hezkuntza.ejgv.euskadi.net/r43-2519/es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ervicio de apoyo educativo (Berritzegunes)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tzeguneak.net/index.php?id=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ursos de formación ofrecidas por los Berritzegun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elkarrekin.org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4.- Materiales y Recurso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ecciones Web interesantes </a:t>
            </a: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el Gobierno Vasco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rebuchet MS"/>
              </a:rPr>
              <a:t>RECURSOS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ratamiento Integrado de lenguas. Euskara-Castellano-Inglé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tratamientointegrado.wordpress.com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http://www.berrikuntza.net/programas/materiales/index?id_p=8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terial propio de inglés producido por los profesores de los centros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ntent based learning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) INEBI: Primaria , BHINEBI: Secundari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4000"/>
              </a:lnSpc>
              <a:spcBef>
                <a:spcPts val="876"/>
              </a:spcBef>
              <a:spcAft>
                <a:spcPts val="876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http://www.gipuztik.net/ingelesa/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5.- Valoración del curso y sugerencia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Valoración de los diferentes temas en escala de 1 a 5: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1.- Organización:  4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2.- Contenidos del curso:  4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3.- Metodología: 3.7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4.- Alojamiento: 4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5.- Manutención: 3.25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36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6.- Actividades varias: 4.50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7.- Valoración Global: 4.25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UGERENCIAS: Metodología muy expositiva. Faltó tiempo para el debate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enús repetitivos. (Demasiada lubina en el menú!)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Muy bien la atención a las personas asistentes, y es un placer: ¡A REPETIR!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rebuchet MS"/>
              </a:rPr>
              <a:t>¡¡Gracias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.- Quiénes integramos el grupo de trabajo nº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MPONENTES DEL GRUPO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042560" y="1557000"/>
            <a:ext cx="770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Britta Halstenbach, (Ale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Carmen Dimitriu, (Romani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é Antonio Calvo Clemente (Melill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Elisabete da Conceicao Rodrigues (Portugal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rge Enrique Domínguez Padron (Islas Canarias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Josune Erkizia. (País Vasco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Sandra Diaz de Alda Sans (Cataluña, España)</a:t>
            </a:r>
            <a:r>
              <a:rPr b="0" lang="ar-SA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‏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Nicanor García  (Asturias, España)</a:t>
            </a: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ROBLEMAS PREVIOS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versidad de perfiles profesionales de las personas que componemos el grupo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ferencias de perspectiva y de escala a la hora de valorar los proyectos y el entorno en el que se desarrollan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etodología de acuerdo: cada persona propone un máximo de 2 proyectos en el apartado 1, y el grupo, de común acuerdo, propone conjuntamente las actividades de formación, los recursos educativos, y la valoración del curso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ORTUGAL: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Proyecto de APROXIMACIÓN A LA VIDA ACTIV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Dirigido a alumnado de Necesidades Educativas Especiales.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Se desarrolla en 6 centros en El Algarve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lumnos 15-16 años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yuda a terminar la escolarización de alumnos con dificultades para el aprendizaje.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proximación a la vida activa. Se adecúa el nivel, se adapta el currículo, se les facilita el camino. La comunidad se implica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2025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www.dgidc.min-edu.p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1.- Proyecto educativo Baden-Württemberg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La Ley impulsa que se trabaje la diversidad en el aula, distinguir los alumnos con diferentes capacidades y trabajarlas según ella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Se agrupan los alumnos por niveles dentro de la misma clase. Hay 3 niveles diferentes en cada aula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eta: ayudar a todos y que todos aprendan según su capacidad. La comunidad ayuda, también participan profesores y pedagogos. Fuera de horas de clase, por la tarde, hay apoyo a los alumnos. Por la tarde hay alumnos mayores voluntarios que ayudan (reciben un pequeño salario). Intervienen los padr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Hay mesas redondas de debate y apoyo. Profesores ponen en común sus experiencias, conclusiones que tienen a partir de asistir a ponencias, compartir para mejorar.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schule-bw.de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LEMANIA: 2 proyectos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 2: </a:t>
            </a:r>
            <a:r>
              <a:rPr b="1" lang="en-GB" sz="1800" spc="-1" strike="noStrike">
                <a:solidFill>
                  <a:srgbClr val="333399"/>
                </a:solidFill>
                <a:latin typeface="Trebuchet MS"/>
              </a:rPr>
              <a:t>Incorporación al Currículum de un grupo de 4 materias optativas en la Enseñanza Secundaria 14- 16 años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ción: de 6 a 8 semanas cada materia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Se trabajan proyectos comunes dentro de las aulas. Asignatura 4 horas semanales durante tres años. Se construyen modelos y prototipos.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os profesores trabajan juntos. Ciencias Naturales y Tecnología. Física, química, Geografía, Biología se trabajan de manera conjunta en proyectos. Se van combinando proyectos, por ej. Climatología: proyectos al aire libre, etc.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Durante un año se trabaja un proyecto en un seminario con varios profesores por separado. Cada alumno trabaja un tema específico, hace un trabajo y una exposición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www.nwt-bw.de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RUMANÍA: Colegio Nacional Mihail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Proyecto: Jornada de puertas abiertas Y DE APOYO A LA ESCUELA 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Estimular la creatividad del alumnado con finalidad práctica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Ante la falta de recursos, el proyecto persigue el objetivo de generar recursos económicos a la escuela para mejorar las condiciones de trabajo del alumnado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Los alumnos generaron obras y productos de todo tipo, y se organizó una exposición en el centro: obras de arte, muestras de cocina rumana, exposición de fotos, talleres vari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Se invitó a los padres y a las fuerzas políticas y sociales, y todo el mundo acudió al centro a la jornada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Resultado: se recaudaron 3.000 €uros…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 2" charset="2"/>
              <a:buChar char="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rebuchet MS"/>
              </a:rPr>
              <a:t>Con el dinero se creó un Gabinete de Recursos MULTIMEDIA en el centro.</a:t>
            </a:r>
            <a:endParaRPr b="0" lang="en-US" sz="1600" spc="-1" strike="noStrike">
              <a:solidFill>
                <a:srgbClr val="0000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Lo mejor: el alumnado gano confianza en sí mismo, se trabajó en equipo y se creó  a partir de esta experiencia el grupo SADOVEANU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98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www.edumanager.ro</a:t>
            </a:r>
            <a:r>
              <a:rPr b="0" lang="en-GB" sz="1800" spc="-1" strike="noStrike">
                <a:solidFill>
                  <a:srgbClr val="333399"/>
                </a:solidFill>
                <a:latin typeface="Trebuchet MS"/>
              </a:rPr>
              <a:t>;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www.edu.ro</a:t>
            </a: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7093080" y="476280"/>
            <a:ext cx="18730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-60840"/>
            <a:ext cx="77770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8040"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2.-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iciativas singulares sobre Creatividad e Innovació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SPAÑA. CATALUÑA. 2 proyectos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1: Plataforma Moodle de aprendizaje via telemática de la EOI de Girona. Complemento al trabajo del aula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Elaborada y mantenida por el profesorado de la EOI. Cada nivel tiene un Moodle, y cada profe tiene un moodle dentro de cada nivel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ntiene materiales y recursos para la enseñanza y el aprendizaje en red por parte del alumnado y el profesorado de la EOI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Proyecto 2: Trabajos de lectura, group reading. Apoyo del asesor de idiomas, itinerarios de aprendizaje por niveles. Centro de autoaprendizaje. Libro virtual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sesoramiento profesorado al llegar al centro. Seguimiento de los profesores, observación, programaciones, retroalimentación.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1280" indent="-34128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SzPct val="14386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Acceso Web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www.eoigirona.com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nicanor</cp:lastModifiedBy>
  <dcterms:modified xsi:type="dcterms:W3CDTF">2009-05-07T18:24:59Z</dcterms:modified>
  <cp:revision>14</cp:revision>
  <dc:subject/>
  <dc:title>Diapositiva 1</dc:title>
</cp:coreProperties>
</file>