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39938-3B8F-46D0-9E46-2280D27137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33838-892A-4092-8A62-FFA1FE55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644D-8896-4BAB-9543-F3DC6B2D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DDE8-99E6-4F8D-ABE5-9FDD2A957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69B98-8121-4431-BF35-231AC216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37FD-7C97-4E58-809F-B8E47FDA4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97F5-73EF-4130-898B-E078CA80D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B5791-F1A5-4DE6-A2BF-9388BFFE3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0E694-2681-498A-99E2-DB3062F35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6FCF-A73D-4EFF-9E0E-A8F6F3C5F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11A-C67C-4A45-97DD-972A7834A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DE5F-C75B-4C03-88D2-29A3FADE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A289C-BE7E-48F2-B72B-6F88EE8BC4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futurelab.org.com/" TargetMode="External"/><Relationship Id="rId2" Type="http://schemas.openxmlformats.org/officeDocument/2006/relationships/hyperlink" Target="http://www.futurelab.org.com/" TargetMode="External"/><Relationship Id="rId3" Type="http://schemas.openxmlformats.org/officeDocument/2006/relationships/hyperlink" Target="http://www.futurelab.org.com/" TargetMode="External"/><Relationship Id="rId4" Type="http://schemas.openxmlformats.org/officeDocument/2006/relationships/hyperlink" Target="http://www.futurelab.org.com/" TargetMode="External"/><Relationship Id="rId5" Type="http://schemas.openxmlformats.org/officeDocument/2006/relationships/hyperlink" Target="http://www.futurelab.org.com/" TargetMode="External"/><Relationship Id="rId6" Type="http://schemas.openxmlformats.org/officeDocument/2006/relationships/hyperlink" Target="http://www.futurelab.org.com/" TargetMode="External"/><Relationship Id="rId7" Type="http://schemas.openxmlformats.org/officeDocument/2006/relationships/hyperlink" Target="http://www.futurelab.org.com/" TargetMode="External"/><Relationship Id="rId8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593640"/>
            <a:ext cx="6553080" cy="557604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33cc"/>
                </a:solidFill>
                <a:latin typeface="Times New Roman"/>
              </a:rPr>
              <a:t>INNOVACIÓN Y CREATIVIDAD EN LA EDUCACIÓN: Entre el presente no satisfactorio y el futuro ambicioso que hay que construir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2514600" y="1295280"/>
            <a:ext cx="3657600" cy="3886200"/>
          </a:xfrm>
          <a:custGeom>
            <a:avLst/>
            <a:gdLst>
              <a:gd name="textAreaLeft" fmla="*/ 0 w 3657600"/>
              <a:gd name="textAreaRight" fmla="*/ 3657960 w 3657600"/>
              <a:gd name="textAreaTop" fmla="*/ 0 h 3886200"/>
              <a:gd name="textAreaBottom" fmla="*/ 3886560 h 3886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14600" y="2286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LIDAD INTE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019920" y="275904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ONTEXTU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514600" y="53341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UN CLI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LASE EX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Y CON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280" y="2362320"/>
            <a:ext cx="2362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RECONOC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VALORAR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600200" y="1066680"/>
            <a:ext cx="25909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mic Sans MS"/>
              </a:rPr>
              <a:t>EVALU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00200" y="2133720"/>
            <a:ext cx="632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uténtica: conocimiento y habilidades superiores, resultados y proces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76520" y="3200400"/>
            <a:ext cx="60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ptar y comprender progreso en el tiemp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3962520"/>
            <a:ext cx="5867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” la enseñanza y el aprendizaje, no sólo “del” aprendiz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510552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valuación “de” y “con” los estudia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38080" y="457200"/>
            <a:ext cx="7315200" cy="825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SER, EJERCER Y APRENDER LA PROFESIÓN DOC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160020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Ninguna idea sobre el aprendizaje y la enseñanza escolar será posible sin una idea y desempeño consecuente de la profesión d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85800" y="2971800"/>
            <a:ext cx="807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stellar"/>
                <a:ea typeface="Lucida Sans Unicode"/>
              </a:rPr>
              <a:t>- Asumir que la educación es un derecho, no un méri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85800" y="388620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stellar"/>
                <a:ea typeface="Lucida Sans Unicode"/>
              </a:rPr>
              <a:t>- Sostener altas aspiraciones, con realismo crítico sobre cada alumno y su potencial  de aprendiz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518148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Castellar"/>
                <a:ea typeface="Lucida Sans Unicode"/>
              </a:rPr>
              <a:t>- acceder  al  conocimiento, comprensión e interpretación, utilización creativa en tareas y contexto de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380880"/>
            <a:ext cx="8534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  <a:ea typeface="Lucida Sans Unicode"/>
              </a:rPr>
              <a:t>- La profesión se va aprendiendo:  reflexión y crítica, innovación, investigación. Propiciar y atender a la voz de los alumnos es fundamental para ir haciendo mejor las co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8600" y="361332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  <a:ea typeface="Lucida Sans Unicode"/>
              </a:rPr>
              <a:t>- Aprender con los colegas: conversación, proyectos, elaboración de materiales, observación, análisis y valoración de práctica y resultados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1752480"/>
            <a:ext cx="8915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3300"/>
                </a:solidFill>
                <a:latin typeface="Times New Roman"/>
                <a:ea typeface="Lucida Sans Unicode"/>
              </a:rPr>
              <a:t>- Conciencia de que las relaciones con los estudiantes son decisivas para ellos y para sí mismos: cuidado, responsabilidad, ayuda, interés, respeto mutuo, escucha, atención especial a los más desaventaj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228600" y="0"/>
          <a:ext cx="86868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0"/>
                    <a:ext cx="86868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304920" y="228600"/>
            <a:ext cx="8458200" cy="947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CENTROS: De organizaciones burocráticas a comunidades democráticas de aprendizaj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4920" y="144792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Un lugar donde aprender, no sólo enseñar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NOCIMIENTO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04920" y="2133720"/>
            <a:ext cx="838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Fortalecer vínculos sociales e intelectuales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COLABO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80880" y="2743200"/>
            <a:ext cx="815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Aprendizaje activo y situado: tareas auténticas, diseño fundado, basado en evidencias y éticamente orientad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PRENDIZA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380988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- Sostener actividades de investigación, renovación pedagógica y evaluación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ff3300"/>
                </a:solidFill>
                <a:latin typeface="Times New Roman"/>
              </a:rPr>
              <a:t>(INVESTIGACION REFLEXIVA Y CRÍTI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4800600"/>
            <a:ext cx="845820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imes New Roman"/>
              </a:rPr>
              <a:t>- 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Tiempos, normas y compromisos para acometer tareas conjuntas</a:t>
            </a: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ES_tradnl" sz="2000" spc="-1" strike="noStrike">
                <a:solidFill>
                  <a:srgbClr val="ff3300"/>
                </a:solidFill>
                <a:latin typeface="Tahoma"/>
              </a:rPr>
              <a:t>(ESTRUCTURAS Y GOBIERNO PERSONALIZADO Y ACOGEDOR DE LOS CENTR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0880" y="603576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- Comunidades con polifonía de voces, influencias y responsabilidades: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INNOVACIÓN COMUNITA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838080" y="304920"/>
            <a:ext cx="685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TAMBIÉN INNOVACIÓN EN POLÍTICAS SOCIALES Y EDUCATIV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14479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ducación, un bien común y público, reclama responsabilidad de poderes públ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" y="243828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Respaldo efectivo a escuelas públicas, liderazgo en activación de prioridades justas y democrát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33520" y="3581280"/>
            <a:ext cx="784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rear condiciones y urgencias para una innovación  y mejora democrática de y en todos los centro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09480" y="4648320"/>
            <a:ext cx="7696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La innovación no depende de estructuras y legislación, sino de cultura, procesos, construcción de conocimiento: eso no se puede decr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52480" y="23623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ALID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INTELECT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562720" y="2438280"/>
            <a:ext cx="266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ONTEXTUA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LIZ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295280" y="3962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UN CLIMA D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CLASE EXIG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Y CON APO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562720" y="403848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RECONOCER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VALORAR L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DIFERENC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6320" y="609480"/>
            <a:ext cx="15238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Conceptos clav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981080" y="304920"/>
            <a:ext cx="19051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Habilidades sup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" y="1752480"/>
            <a:ext cx="12952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Conver-s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91320" y="304920"/>
            <a:ext cx="18288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Integ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934320" y="1066680"/>
            <a:ext cx="17524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Situaciones autén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105520" y="1219320"/>
            <a:ext cx="16002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Problem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3124080"/>
            <a:ext cx="19051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Altas aspir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352680"/>
            <a:ext cx="23623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Respons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0" y="5181480"/>
            <a:ext cx="198108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Impl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5867280"/>
            <a:ext cx="35812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Relaciones de apoyo, ayu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57800" y="5334120"/>
            <a:ext cx="25909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  <a:ea typeface="Lucida Sans Unicode"/>
              </a:rPr>
              <a:t>Aula, comunidad aprendizaj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410080" y="3581280"/>
            <a:ext cx="19051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Divers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72200" y="6400800"/>
            <a:ext cx="25909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Ciudadanía acti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752480" y="1676520"/>
            <a:ext cx="312444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Formas represen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981080" y="1828800"/>
            <a:ext cx="5105520" cy="28954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REPENSA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SCUELAS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EDUCACIÓN 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ONTEXT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CAMBIOS PARADÓG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Y PROBLEMÁTIC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68580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Demográf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505320" y="5335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ciales y cultur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534996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ientíficos y Tecn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52680" y="541008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Económ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91320" y="7621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ers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53499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olíticos e ideológic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2209680" y="1066680"/>
            <a:ext cx="4038840" cy="137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cc"/>
                </a:solidFill>
                <a:latin typeface="Wide Latin"/>
              </a:rPr>
              <a:t>CONOCI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-76320" y="3505320"/>
            <a:ext cx="2819520" cy="15238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Wide Latin"/>
              </a:rPr>
              <a:t>EDUC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562720" y="3581280"/>
            <a:ext cx="3733560" cy="1371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Wide Latin"/>
              </a:rPr>
              <a:t>INNOV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Wide Latin"/>
              </a:rPr>
              <a:t>CREA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2514600"/>
            <a:ext cx="3429000" cy="243828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2438280"/>
              <a:gd name="textAreaBottom" fmla="*/ 2438640 h 243828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VALOR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ÉTICA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DEMOCRA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85800" y="152280"/>
            <a:ext cx="792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O BASTA ACCESO: UNA BUENA EDUCACIÓN COMO DERECHO ESENCIAL DE TODAS LA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62120" y="1066680"/>
            <a:ext cx="78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RANSFORMACIONES PROFUNDAS EN LO QUE SE VALORA Y ENSEÑA, APRENDIZAJES ESCOLARES, METODOLOGÍAS, RECURSOS Y RELACIONES, EVALU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62120" y="2743200"/>
            <a:ext cx="8305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OLÍTICAS Y PRÁCTICAS EFECTIVAS PARA PERSONA-LIZAR LA EDUCACIÓN CON UNA PRIORIDAD: SACAR EL MÁXIMO POSIBLE DE CADA ALUMNO Y LUCHA CONTRA EL FRACAS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212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IANZAS POLÍTICAS, SOCIALES Y COMUNITARI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838080" y="5257800"/>
            <a:ext cx="7620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TILIZAR Y AMPLIAR EL CONOCIMIENTO DISPONIBL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143000" y="380880"/>
            <a:ext cx="63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mic Sans MS"/>
              </a:rPr>
              <a:t>FOCOS PREFERENTES DE ATEN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905120" y="1447920"/>
            <a:ext cx="533376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* CURRÍCULO, ENSEÑANZA Y APRENDIZAJE, EVALUACIÓ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905120" y="3276720"/>
            <a:ext cx="510516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* PROFESIÓN DOC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905120" y="4495680"/>
            <a:ext cx="41148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3333cc"/>
                </a:solidFill>
                <a:latin typeface="Comic Sans MS"/>
              </a:rPr>
              <a:t>* CENTROS ESCOLA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784160" y="3092400"/>
            <a:ext cx="4572000" cy="825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entury Schoolbook"/>
              </a:rPr>
              <a:t>POLÍTICAS SOCIALES Y EDUCATIVAS PÚBLIC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914400" y="7632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Comic Sans MS"/>
              </a:rPr>
              <a:t>CULTURA Y CONOCIMIENTO ESC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371600" y="685800"/>
            <a:ext cx="662940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Una institución “de” y “para” el conocimiento: culturización disciplinad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371600" y="1905120"/>
            <a:ext cx="67816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Saber organizado, comprensión del mundo, compartir cultu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2971800"/>
            <a:ext cx="693432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Información, conocimiento y comprensión profunda: menos puede ser más y mej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371600" y="4191120"/>
            <a:ext cx="7238880" cy="8254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enidos rigurosos, pero con sentido: superar fragmentación, rigidez y buscar integr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371600" y="5181480"/>
            <a:ext cx="731520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“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Geografías de vida” y relevancia soc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71600" y="5867280"/>
            <a:ext cx="7391520" cy="4597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</a:rPr>
              <a:t>Contenidos cognitivos, personales, civismo activ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304920"/>
            <a:ext cx="7086600" cy="50317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“</a:t>
            </a:r>
            <a:r>
              <a:rPr b="1" lang="es-ES" sz="3600" spc="-1" strike="noStrike">
                <a:solidFill>
                  <a:srgbClr val="ffffff"/>
                </a:solidFill>
                <a:latin typeface="Times New Roman"/>
              </a:rPr>
              <a:t>La mayor parte del conocimiento escolar es lo que queremos que los alumnos aprendan, y está bien. Pero puede suceder que no se corresponda con lo que ellos quieren aprender, con sus intereses, ni con lo que valoran como importante” </a:t>
            </a:r>
            <a:r>
              <a:rPr b="1" lang="es-ES" sz="3600" spc="-1" strike="noStrike">
                <a:solidFill>
                  <a:srgbClr val="ffcc00"/>
                </a:solidFill>
                <a:latin typeface="Times New Roman"/>
              </a:rPr>
              <a:t>(Enquiring Minds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676520" y="5715000"/>
            <a:ext cx="5410080" cy="5814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003399"/>
                </a:solidFill>
                <a:latin typeface="Times New Roman"/>
              </a:rPr>
              <a:t>(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www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.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futurelab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.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org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.</a:t>
            </a:r>
            <a:r>
              <a:rPr b="0" lang="es-ES" sz="3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com</a:t>
            </a:r>
            <a:r>
              <a:rPr b="1" i="1" lang="es-ES" sz="3200" spc="-1" strike="noStrike">
                <a:solidFill>
                  <a:srgbClr val="003399"/>
                </a:solidFill>
                <a:latin typeface="Times New Roman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971800" y="1981080"/>
            <a:ext cx="2743200" cy="2057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U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CURR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Black"/>
              </a:rPr>
              <a:t>BÁS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85800" y="6858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prendizajes funcion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400800" y="76320"/>
            <a:ext cx="2209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Capacidades cognitivas superiores, desde la comprensión profunda a la resolución de problemas y creativ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828800" y="4937040"/>
            <a:ext cx="5638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00"/>
                </a:solidFill>
                <a:latin typeface="Arial"/>
              </a:rPr>
              <a:t>HABILIDADES PERSONALES Y SO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munica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ligencia, fiabilidad, disposición a mejo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abajar con otr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ciencia moral y cívic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2362320" y="1294920"/>
            <a:ext cx="838080" cy="11430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5486400" y="837720"/>
            <a:ext cx="1066680" cy="160020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419720" y="4114800"/>
            <a:ext cx="0" cy="762120"/>
          </a:xfrm>
          <a:prstGeom prst="line">
            <a:avLst/>
          </a:prstGeom>
          <a:ln w="7632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33520" y="152280"/>
            <a:ext cx="7772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¿QUÉ SABEMOS SOBRE EL APRENDIZAJE Y EL DESARROLLO DE HABILIDADES COGNITIVAS, PERSONALES Y SOCIALE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14400" y="1600200"/>
            <a:ext cx="7924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Activo, relevante y significativo, en contexto, situaciones cotidianas y problemas re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666880"/>
            <a:ext cx="792468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Profundo, reflexivo, indagador, autocontrol (aprender a apren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14400" y="3657600"/>
            <a:ext cx="662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Sostenido en el tiempo y en todo el curr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14400" y="4343400"/>
            <a:ext cx="7010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Compartido, contrastado, conversación con ot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914400" y="5029200"/>
            <a:ext cx="6629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Valorado, interés, motivador, útil, buen cli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914400" y="5791320"/>
            <a:ext cx="739152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ff"/>
                </a:solidFill>
                <a:latin typeface="Times New Roman"/>
                <a:ea typeface="Lucida Sans Unicode"/>
              </a:rPr>
              <a:t>Diverso, tanto por intereses como por capacidades, apoyo personal, flexibilidad, el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8T11:54:05Z</dcterms:created>
  <dc:creator>Juan Manuel Escudero Muñoz</dc:creator>
  <dc:description/>
  <dc:language>en-US</dc:language>
  <cp:lastModifiedBy>Juan Manuel Escudero Muñoz</cp:lastModifiedBy>
  <dcterms:modified xsi:type="dcterms:W3CDTF">2009-05-03T08:39:51Z</dcterms:modified>
  <cp:revision>9</cp:revision>
  <dc:subject/>
  <dc:title>Presentación de PowerPoint</dc:title>
</cp:coreProperties>
</file>