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F3070-F628-4092-A09A-38CF206D5547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A6AF1-FE07-41F7-BBC8-E23E15FA9FA2}" type="slidenum">
              <a:rPr b="0" lang="es-E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21F6AA-3180-4886-9A0A-C3E4DE5BC974}" type="slidenum">
              <a:rPr b="0" lang="es-E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E27C3-16DD-4993-9681-21DCE6FE0B9C}" type="slidenum">
              <a:rPr b="0" lang="es-E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52ACE-78FE-4EBD-B1F4-A4E4FCE90536}" type="slidenum">
              <a:rPr b="0" lang="es-E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4BD90-5AAE-4EF8-AA14-FF3D289589BE}" type="slidenum">
              <a:rPr b="0" lang="es-E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A247F-03E0-45E4-BD20-555C178DAE02}" type="slidenum">
              <a:rPr b="0" lang="es-E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0E476-3D6F-4D0F-A3C6-9BA8BB84CA78}" type="slidenum">
              <a:rPr b="0" lang="es-E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D6829-6393-4416-9E65-3A3FEF304FD7}" type="slidenum">
              <a:rPr b="0" lang="es-E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1D10B-91AD-4EF5-9D72-F22FE7AC16EA}" type="slidenum">
              <a:rPr b="0" lang="es-E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21A0C-9D92-4C81-AEC3-B33F559500B3}" type="slidenum">
              <a:rPr b="0" lang="es-E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153DA-53FE-4029-93FB-327FC40501F8}" type="slidenum">
              <a:rPr b="0" lang="es-E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7C3DF-98E2-42AD-A939-584C262F621A}" type="slidenum">
              <a:rPr b="0" lang="es-E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11C21-9FD5-4958-B274-7E6B42560985}" type="slidenum">
              <a:rPr b="0" lang="es-E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9BA51-5995-4315-BB15-802458B1E97C}" type="slidenum">
              <a:rPr b="0" lang="es-ES" sz="1200" spc="-1" strike="noStrike">
                <a:solidFill>
                  <a:srgbClr val="0033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4DE65-E051-4479-85E6-D6E877FF7A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FC72D-FB03-4566-B27D-C8715A21E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DAB679-40AA-472B-99F6-DFBF5C029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B26872-B431-43A5-B22F-8F6665E7F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85CBF-BB80-46BB-8500-B4B6C4AAF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22513-D5D0-42EC-A19E-75171603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2C3B-0208-44A8-838D-B997D7F70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DE15B-AA26-4ADB-8088-58D272A2C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38076-501E-45EE-B8C2-96B6B3D1B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097C1-F02B-46A2-8770-EF74E2357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F7201-0597-4FA0-8F0B-2F21196C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D0DA6-EDF0-4760-8DF0-1D17EDB33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CE28-8EBA-446E-8ECE-73378C79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9BA4B-509E-4E3B-AB2F-E9DCDBDD8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1AEB2-6856-4EEF-B4DC-7D4838952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1BE5A-6D63-45D8-A996-EF25F6861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D17B-6DFE-4460-9927-6F8977ED4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52A5D-4654-41FB-AA83-208B009E3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9BA82-EDC9-4FD7-ACCC-01B8A5C2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4C419-EE93-4C97-AD1F-D9C91892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0AFB3-F075-4B72-A656-E76F7AB3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19AE7-DA9F-4301-9702-3F450F63A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08E69-D72E-45CA-A0B0-1A4C55ECF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0371DF-BED5-4294-951D-227AADF5D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6C5AA-D298-45FF-99CE-B153C87E0380}" type="slidenum">
              <a:rPr b="0" lang="es-E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3366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66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6699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669900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33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6699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33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33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93C1-EF51-494F-9774-DCBE111AF7C1}" type="slidenum">
              <a:rPr b="0" lang="es-ES" sz="1200" spc="-1" strike="noStrike">
                <a:solidFill>
                  <a:srgbClr val="0033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eading.org/" TargetMode="External"/><Relationship Id="rId3" Type="http://schemas.openxmlformats.org/officeDocument/2006/relationships/hyperlink" Target="http://www.asociacionaele.org/" TargetMode="External"/><Relationship Id="rId4" Type="http://schemas.openxmlformats.org/officeDocument/2006/relationships/hyperlink" Target="http://www.asociacionaele.org/" TargetMode="External"/><Relationship Id="rId5" Type="http://schemas.openxmlformats.org/officeDocument/2006/relationships/hyperlink" Target="http://www.asociacionaele.org/" TargetMode="External"/><Relationship Id="rId6" Type="http://schemas.openxmlformats.org/officeDocument/2006/relationships/hyperlink" Target="mailto:aele@asociacionaele.org" TargetMode="External"/><Relationship Id="rId7" Type="http://schemas.openxmlformats.org/officeDocument/2006/relationships/hyperlink" Target="mailto:aele@asociacionaele.org" TargetMode="External"/><Relationship Id="rId8" Type="http://schemas.openxmlformats.org/officeDocument/2006/relationships/hyperlink" Target="mailto:aele@asociacionaele.org" TargetMode="External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7164360" y="333360"/>
            <a:ext cx="1584360" cy="1036800"/>
          </a:xfrm>
          <a:prstGeom prst="rect">
            <a:avLst/>
          </a:prstGeom>
          <a:ln w="0">
            <a:noFill/>
          </a:ln>
        </p:spPr>
      </p:pic>
      <p:sp>
        <p:nvSpPr>
          <p:cNvPr id="114" name="Text Box 5"/>
          <p:cNvSpPr/>
          <p:nvPr/>
        </p:nvSpPr>
        <p:spPr>
          <a:xfrm>
            <a:off x="2771640" y="5084640"/>
            <a:ext cx="6191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CREATIVIDAD E INNOVACIÓN: RETOS DE FUTURO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SEMINARIO INTERNACION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CONSEJO DE EUROPA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San Sebastián – 4 al 8 mayo 2009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2195640" y="1989000"/>
            <a:ext cx="694836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MESA REDONDA: LA INNOVACIÓN EN LA COMPETENCIA EN COMUNICACIÓN LINGÜÍSTICA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3348000" y="3068640"/>
            <a:ext cx="5616720" cy="9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stela D´Angelo Menéndez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sociación Española de Lectura y Escritura – AELE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r">
              <a:lnSpc>
                <a:spcPct val="55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Universidad Complutense de Madrid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6840" y="617040"/>
            <a:ext cx="8186760" cy="173988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Por tanto, la AELE decide unirse a las acciones  socio-pedagógicas de su tiempo desarrollando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OGRAMAS</a:t>
            </a: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que asuman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INCIPIOS INNOVADORES, entre ellos…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2341440"/>
            <a:ext cx="8229600" cy="9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536040" indent="-536040" algn="just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el incremento de las prácticas del lenguaje en la dinámica del contexto escolar, fundamentalmente, las de escritura;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68360" y="3571920"/>
            <a:ext cx="822960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Calibri"/>
              </a:rPr>
              <a:t>el desarrollo de comunidades de lectores y de escritores en el contexto escolar, y en interacción con otras instituciones socio-educativa-culturales; y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68360" y="5084640"/>
            <a:ext cx="822960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  <a:ea typeface="Calibri"/>
              </a:rPr>
              <a:t>el abordaje de los contenidos lingüísticos sobre la base de una enriquecida experiencia en el uso social del  lenguaje. 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3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3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Arial"/>
              </a:rPr>
              <a:t>PROGRAMAS QUE DESARROLLA LA AELE</a:t>
            </a:r>
            <a:endParaRPr b="0" lang="en-US" sz="36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50920" y="1981080"/>
            <a:ext cx="864216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99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PROGRAMA MARCO:</a:t>
            </a: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Red de Ciudades y Pueblos Lectores y Escritores – Red CPLE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266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26676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00"/>
              </a:solidFill>
              <a:latin typeface="Arial"/>
            </a:endParaRPr>
          </a:p>
          <a:p>
            <a:pPr marL="266760" indent="-26676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PROGRAMAS EDUCATIVO-CULTURALES QUE OFRECE A LA COMUNIDAD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- 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Exposición de poemas fotografiados </a:t>
            </a:r>
            <a:r>
              <a:rPr b="1" i="1" lang="es-ES" sz="2000" spc="-1" strike="noStrike">
                <a:solidFill>
                  <a:srgbClr val="003300"/>
                </a:solidFill>
                <a:latin typeface="Arial"/>
              </a:rPr>
              <a:t>“Un poema, una </a:t>
            </a:r>
            <a:r>
              <a:rPr b="1" i="1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003300"/>
                </a:solidFill>
                <a:latin typeface="Arial"/>
              </a:rPr>
              <a:t>imagen y tu mirada”</a:t>
            </a:r>
            <a:r>
              <a:rPr b="1" lang="es-ES" sz="2000" spc="-1" strike="noStrike">
                <a:solidFill>
                  <a:srgbClr val="003300"/>
                </a:solidFill>
                <a:latin typeface="Arial"/>
              </a:rPr>
              <a:t> 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- 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Exposición Iberoamericana de poemas fotografiados </a:t>
            </a:r>
            <a:r>
              <a:rPr b="1" i="1" lang="es-ES" sz="2000" spc="-1" strike="noStrike">
                <a:solidFill>
                  <a:srgbClr val="003300"/>
                </a:solidFill>
                <a:latin typeface="Arial"/>
              </a:rPr>
              <a:t>“Con </a:t>
            </a:r>
            <a:r>
              <a:rPr b="1" i="1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003300"/>
                </a:solidFill>
                <a:latin typeface="Arial"/>
              </a:rPr>
              <a:t>ojos y voz de mujer”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2667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- Campaña audiovisual por el acercamiento al mundo de la 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lectura y la escritura </a:t>
            </a:r>
            <a:r>
              <a:rPr b="1" i="1" lang="es-ES" sz="2000" spc="-1" strike="noStrike">
                <a:solidFill>
                  <a:srgbClr val="003300"/>
                </a:solidFill>
                <a:latin typeface="Arial"/>
              </a:rPr>
              <a:t>“Si no leer, no pasa nada…¡Deja </a:t>
            </a:r>
            <a:r>
              <a:rPr b="1" i="1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i="1" lang="es-ES" sz="2000" spc="-1" strike="noStrike">
                <a:solidFill>
                  <a:srgbClr val="003300"/>
                </a:solidFill>
                <a:latin typeface="Arial"/>
              </a:rPr>
              <a:t>que te pasen cosas!”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500"/>
                                        <p:tgtEl>
                                          <p:spTgt spid="1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500"/>
                                        <p:tgtEl>
                                          <p:spTgt spid="1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144360" y="1412640"/>
            <a:ext cx="8748720" cy="244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PROGRAMAS EDUCATIVO-CULTURALES QUE OFRECE A LA COMUNIDAD (continuación)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- Organización de prácticas de escritura y lectura destinadas a la 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población infantil y juvenil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        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- Acompañamiento específico a los proyectos de la Red 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CPLE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- Página web dedicada a los niños (www.dioperico.com)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ROGRAMAS QUE DESARROLLA LA AEL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144360" y="4149720"/>
            <a:ext cx="860436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PROGRAMAS DE FORMACIÓN PROFESIONAL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-   Formación permanente de los profesionales de la educación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-   Formación de mediadores culturales para la lectura y la 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escritura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-   Participación y asesoramiento en distintos foros sociales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500"/>
                            </p:stCondLst>
                            <p:childTnLst>
                              <p:par>
                                <p:cTn id="17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500"/>
                                        <p:tgtEl>
                                          <p:spTgt spid="1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11">
            <a:hlinkClick r:id="rId1" action="ppaction://hlinksldjump"/>
          </p:cNvPr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324000" y="1980720"/>
            <a:ext cx="8820000" cy="39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RED DE CIUDADES Y PUEBLOS LECTORES Y ESCRITORES – RED CPL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00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EXPOSICIÓN DE POEMAS FOTOGRAFIADO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- “Un poema, una imagen y tu mirada” (1ª versión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- “Con ojos y voz de mujer” (2ª versión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556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00"/>
              </a:solidFill>
              <a:latin typeface="Arial"/>
            </a:endParaRPr>
          </a:p>
          <a:p>
            <a:pPr marL="355680" indent="-355680">
              <a:lnSpc>
                <a:spcPct val="80000"/>
              </a:lnSpc>
              <a:spcBef>
                <a:spcPts val="601"/>
              </a:spcBef>
              <a:buClr>
                <a:srgbClr val="3366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00"/>
                </a:solidFill>
                <a:latin typeface="Arial"/>
              </a:rPr>
              <a:t>CAMPAÑA POR EL ACERCAMIENTO AL MUNDO DE LA LECTURA Y LA ESCRITURA</a:t>
            </a:r>
            <a:r>
              <a:rPr b="0" lang="es-ES" sz="2400" spc="-1" strike="noStrike">
                <a:solidFill>
                  <a:srgbClr val="003300"/>
                </a:solidFill>
                <a:latin typeface="Arial"/>
              </a:rPr>
              <a:t>. “</a:t>
            </a:r>
            <a:r>
              <a:rPr b="0" i="1" lang="es-ES" sz="2400" spc="-1" strike="noStrike">
                <a:solidFill>
                  <a:srgbClr val="003300"/>
                </a:solidFill>
                <a:latin typeface="Arial"/>
              </a:rPr>
              <a:t>Si no lees, no pasa nada…¡Deja que te pasen cosas!”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428760" y="642960"/>
            <a:ext cx="8229600" cy="86688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APROXIMACIÓN A ALGUNO DE SUS PROGRAMAS…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58" name="Group 12"/>
          <p:cNvGrpSpPr/>
          <p:nvPr/>
        </p:nvGrpSpPr>
        <p:grpSpPr>
          <a:xfrm>
            <a:off x="4788000" y="2349360"/>
            <a:ext cx="3960720" cy="3384720"/>
            <a:chOff x="4788000" y="2349360"/>
            <a:chExt cx="3960720" cy="3384720"/>
          </a:xfrm>
        </p:grpSpPr>
        <p:sp>
          <p:nvSpPr>
            <p:cNvPr id="159" name="AutoShape 6"/>
            <p:cNvSpPr/>
            <p:nvPr/>
          </p:nvSpPr>
          <p:spPr>
            <a:xfrm>
              <a:off x="4788000" y="234936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244" h="21600">
                  <a:moveTo>
                    <a:pt x="8116" y="3794"/>
                  </a:moveTo>
                  <a:lnTo>
                    <a:pt x="22129" y="10800"/>
                  </a:lnTo>
                  <a:lnTo>
                    <a:pt x="8116" y="17806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0" name="AutoShape 7"/>
            <p:cNvSpPr/>
            <p:nvPr/>
          </p:nvSpPr>
          <p:spPr>
            <a:xfrm>
              <a:off x="8244000" y="364500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244" h="21600">
                  <a:moveTo>
                    <a:pt x="8116" y="3794"/>
                  </a:moveTo>
                  <a:lnTo>
                    <a:pt x="22129" y="10800"/>
                  </a:lnTo>
                  <a:lnTo>
                    <a:pt x="8116" y="17806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1" name="AutoShape 8"/>
            <p:cNvSpPr/>
            <p:nvPr/>
          </p:nvSpPr>
          <p:spPr>
            <a:xfrm>
              <a:off x="6732720" y="39337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244" h="21600">
                  <a:moveTo>
                    <a:pt x="8116" y="3794"/>
                  </a:moveTo>
                  <a:lnTo>
                    <a:pt x="22129" y="10800"/>
                  </a:lnTo>
                  <a:lnTo>
                    <a:pt x="8116" y="17806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62" name="AutoShape 9"/>
            <p:cNvSpPr/>
            <p:nvPr/>
          </p:nvSpPr>
          <p:spPr>
            <a:xfrm>
              <a:off x="8101080" y="5373720"/>
              <a:ext cx="504720" cy="360360"/>
            </a:xfrm>
            <a:custGeom>
              <a:avLst/>
              <a:gdLst>
                <a:gd name="textAreaLeft" fmla="*/ 23040 w 504720"/>
                <a:gd name="textAreaRight" fmla="*/ 481680 w 504720"/>
                <a:gd name="textAreaTop" fmla="*/ 23040 h 360360"/>
                <a:gd name="textAreaBottom" fmla="*/ 337320 h 360360"/>
              </a:gdLst>
              <a:ahLst/>
              <a:rect l="textAreaLeft" t="textAreaTop" r="textAreaRight" b="textAreaBottom"/>
              <a:pathLst>
                <a:path w="30244" h="21600">
                  <a:moveTo>
                    <a:pt x="0" y="0"/>
                  </a:moveTo>
                  <a:lnTo>
                    <a:pt x="30244" y="0"/>
                  </a:lnTo>
                  <a:lnTo>
                    <a:pt x="30244" y="21600"/>
                  </a:lnTo>
                  <a:lnTo>
                    <a:pt x="0" y="21600"/>
                  </a:lnTo>
                  <a:close/>
                </a:path>
                <a:path fill="lightenLess" w="30244" h="21600">
                  <a:moveTo>
                    <a:pt x="0" y="0"/>
                  </a:moveTo>
                  <a:lnTo>
                    <a:pt x="30244" y="0"/>
                  </a:lnTo>
                  <a:lnTo>
                    <a:pt x="28844" y="1400"/>
                  </a:lnTo>
                  <a:lnTo>
                    <a:pt x="1400" y="1400"/>
                  </a:lnTo>
                  <a:close/>
                </a:path>
                <a:path fill="darken" w="30244" h="21600">
                  <a:moveTo>
                    <a:pt x="30244" y="0"/>
                  </a:moveTo>
                  <a:lnTo>
                    <a:pt x="30244" y="21600"/>
                  </a:lnTo>
                  <a:lnTo>
                    <a:pt x="28844" y="20200"/>
                  </a:lnTo>
                  <a:lnTo>
                    <a:pt x="28844" y="1400"/>
                  </a:lnTo>
                  <a:close/>
                </a:path>
                <a:path fill="darkenLess" w="30244" h="21600">
                  <a:moveTo>
                    <a:pt x="3024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8844" y="20200"/>
                  </a:lnTo>
                  <a:close/>
                </a:path>
                <a:path fill="lighten" w="3024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30244" h="21600">
                  <a:moveTo>
                    <a:pt x="8116" y="3794"/>
                  </a:moveTo>
                  <a:lnTo>
                    <a:pt x="22129" y="10800"/>
                  </a:lnTo>
                  <a:lnTo>
                    <a:pt x="8116" y="17806"/>
                  </a:lnTo>
                  <a:close/>
                </a:path>
              </a:pathLst>
            </a:cu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500"/>
                            </p:stCondLst>
                            <p:childTnLst>
                              <p:par>
                                <p:cTn id="19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"/>
                            </p:stCondLst>
                            <p:childTnLst>
                              <p:par>
                                <p:cTn id="2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500"/>
                            </p:stCondLst>
                            <p:childTnLst>
                              <p:par>
                                <p:cTn id="2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5" dur="500"/>
                                        <p:tgtEl>
                                          <p:spTgt spid="15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507520" cy="13716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RED DE CIUDADES Y PUEBLOS LECTORES Y ESCRITORES – </a:t>
            </a: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RED CPLE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64" name="Picture 5" descr="http://asociacionaele.org/aele/images/logos%20de%20la%20red%20cple.jpg"/>
          <p:cNvPicPr/>
          <p:nvPr/>
        </p:nvPicPr>
        <p:blipFill>
          <a:blip r:embed="rId1"/>
          <a:stretch/>
        </p:blipFill>
        <p:spPr>
          <a:xfrm>
            <a:off x="2050920" y="1916280"/>
            <a:ext cx="5042160" cy="1295280"/>
          </a:xfrm>
          <a:prstGeom prst="rect">
            <a:avLst/>
          </a:prstGeom>
          <a:ln w="0">
            <a:noFill/>
          </a:ln>
        </p:spPr>
      </p:pic>
      <p:sp>
        <p:nvSpPr>
          <p:cNvPr id="165" name="Text Box 6"/>
          <p:cNvSpPr/>
          <p:nvPr/>
        </p:nvSpPr>
        <p:spPr>
          <a:xfrm>
            <a:off x="179280" y="3429000"/>
            <a:ext cx="896472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- </a:t>
            </a: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Actuaciones en Red entre lectores y escritores en las Comunidades Autónomas españolas, en íntima relación con el Proyecto Ciudades Lectoras –CLs- que se desarrolla en América Latina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- Creación de </a:t>
            </a: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RUTAS LECTORAS Y ESCRITORAS (</a:t>
            </a:r>
            <a:r>
              <a:rPr b="1" i="1" lang="es-ES" sz="1800" spc="-1" strike="noStrike">
                <a:solidFill>
                  <a:srgbClr val="003300"/>
                </a:solidFill>
                <a:latin typeface="Arial"/>
              </a:rPr>
              <a:t>intra</a:t>
            </a: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 e </a:t>
            </a:r>
            <a:r>
              <a:rPr b="1" i="1" lang="es-ES" sz="1800" spc="-1" strike="noStrike">
                <a:solidFill>
                  <a:srgbClr val="003300"/>
                </a:solidFill>
                <a:latin typeface="Arial"/>
              </a:rPr>
              <a:t>inter</a:t>
            </a: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 ciudades y pueblos)</a:t>
            </a: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1) … en un centro educativo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2) … entre varios centros educativos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3) … entre centros educativos y la biblioteca de la zona.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4) … entre las distintas instituciones sociales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- www.asociacionaele.org/red-cple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13716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XPOSICIÓN DE POEMAS FOTOGRAFIADOS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“UN POEMA, UNA IMAGEN Y TU MIRADA”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250920" y="4405320"/>
            <a:ext cx="8642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Contribuir, a través de un </a:t>
            </a:r>
            <a:r>
              <a:rPr b="1" lang="es-ES" sz="2000" spc="-1" strike="noStrike">
                <a:solidFill>
                  <a:srgbClr val="003300"/>
                </a:solidFill>
                <a:latin typeface="Arial"/>
              </a:rPr>
              <a:t>paseo intertextual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 de la mano de distintos lenguajes, a la formación de niños y jóvenes lectores y escritores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177840" indent="-17784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marL="177840" indent="-177840" algn="just"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00"/>
                </a:solidFill>
                <a:latin typeface="Arial"/>
              </a:rPr>
              <a:t>Estimular la práctica de la lectura y la escritura en todas las edades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, el acercamiento al mundo de la poesía y de la fotografía, la creación literaria y la participación en escenarios atractivos para leer y escribir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68" name="Picture 5" descr="http://asociacionaele.org/aele/images/portada%20expo.jpg"/>
          <p:cNvPicPr/>
          <p:nvPr/>
        </p:nvPicPr>
        <p:blipFill>
          <a:blip r:embed="rId1"/>
          <a:stretch/>
        </p:blipFill>
        <p:spPr>
          <a:xfrm>
            <a:off x="3780000" y="2060640"/>
            <a:ext cx="1514160" cy="20890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6"/>
          <p:cNvSpPr/>
          <p:nvPr/>
        </p:nvSpPr>
        <p:spPr>
          <a:xfrm>
            <a:off x="395280" y="3824280"/>
            <a:ext cx="208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00"/>
                </a:solidFill>
                <a:latin typeface="Arial"/>
              </a:rPr>
              <a:t>OBJETIVOS: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507520" cy="13716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EXPOSICIÓN IBEROAMERICANA DE POEMAS Y FOTOGRAFÍAS</a:t>
            </a:r>
            <a:br>
              <a:rPr sz="2800"/>
            </a:br>
            <a:r>
              <a:rPr b="0" lang="es-E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“CON OJOS Y VOZ DE MUJER”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71" name="Picture 6" descr=""/>
          <p:cNvPicPr/>
          <p:nvPr/>
        </p:nvPicPr>
        <p:blipFill>
          <a:blip r:embed="rId1"/>
          <a:stretch/>
        </p:blipFill>
        <p:spPr>
          <a:xfrm>
            <a:off x="2124000" y="1989000"/>
            <a:ext cx="4964040" cy="143856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7"/>
          <p:cNvSpPr/>
          <p:nvPr/>
        </p:nvSpPr>
        <p:spPr>
          <a:xfrm>
            <a:off x="250920" y="3860640"/>
            <a:ext cx="878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- La AELE, junto a </a:t>
            </a: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instituciones de otros 10 países iberoamericanos </a:t>
            </a: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-</a:t>
            </a: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Argentina, Bolivia, Costa Rica, Guatemala, México, Nicaragua, Panamá, Perú, Portugal y Uruguay-, </a:t>
            </a: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ha generado esta Exposición con el objetivo de promover prácticas de lectura y de escritura en las generaciones más jóvenes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3" name="Text Box 8"/>
          <p:cNvSpPr/>
          <p:nvPr/>
        </p:nvSpPr>
        <p:spPr>
          <a:xfrm>
            <a:off x="250920" y="5229360"/>
            <a:ext cx="88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- La Exposición viaja por distintas </a:t>
            </a: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rutas lectoras y escritoras </a:t>
            </a: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con la intención de encontrar las voces de la infancia y la adolescencia e invitarlas a compartir sus palabras en la trama inagotable de los distintos lenguajes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8351640" cy="151272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MPAÑA POR EL ACERCAMIENTO AL MUNDO DE LA LECTURA Y LA ESCRITURA </a:t>
            </a:r>
            <a:br>
              <a:rPr sz="2400"/>
            </a:br>
            <a:r>
              <a:rPr b="1" i="1" lang="es-ES" sz="2400" spc="-1" strike="noStrike">
                <a:solidFill>
                  <a:srgbClr val="ffffff"/>
                </a:solidFill>
                <a:latin typeface="Arial"/>
              </a:rPr>
              <a:t>Si no lees, no pasa nada…¡Deja que te pasen cosas!</a:t>
            </a:r>
            <a:br>
              <a:rPr sz="2400"/>
            </a:b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75" name="Picture 4" descr="http://www.asociacionaele.org/aele/images/invitacion.jpg"/>
          <p:cNvPicPr/>
          <p:nvPr/>
        </p:nvPicPr>
        <p:blipFill>
          <a:blip r:embed="rId1"/>
          <a:stretch/>
        </p:blipFill>
        <p:spPr>
          <a:xfrm>
            <a:off x="2916360" y="2276640"/>
            <a:ext cx="3600360" cy="1680840"/>
          </a:xfrm>
          <a:prstGeom prst="rect">
            <a:avLst/>
          </a:prstGeom>
          <a:ln w="0">
            <a:noFill/>
          </a:ln>
        </p:spPr>
      </p:pic>
      <p:sp>
        <p:nvSpPr>
          <p:cNvPr id="176" name="Text Box 5"/>
          <p:cNvSpPr/>
          <p:nvPr/>
        </p:nvSpPr>
        <p:spPr>
          <a:xfrm>
            <a:off x="395280" y="4292640"/>
            <a:ext cx="8353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Cápsulas de video con los </a:t>
            </a: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testimonios</a:t>
            </a: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 de personas del mundo del cine, el deporte, la televisión, la radio, la música, la política, el teatro, la cultura, la justicia… de nuestra sociedad, invitadas a compartir algún momento memorable de lectura o de escritura que, de alguna forma, han influenciado su construcción de la realidad.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7" name="AutoShape 7"/>
          <p:cNvSpPr/>
          <p:nvPr/>
        </p:nvSpPr>
        <p:spPr>
          <a:xfrm rot="5400000">
            <a:off x="1223280" y="5625360"/>
            <a:ext cx="504720" cy="1008000"/>
          </a:xfrm>
          <a:prstGeom prst="pie">
            <a:avLst/>
          </a:prstGeom>
          <a:gradFill rotWithShape="0">
            <a:gsLst>
              <a:gs pos="0">
                <a:srgbClr val="336600"/>
              </a:gs>
              <a:gs pos="100000">
                <a:srgbClr val="99cc00"/>
              </a:gs>
            </a:gsLst>
            <a:lin ang="16200000"/>
          </a:gra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2340000" y="6014880"/>
            <a:ext cx="62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00"/>
                </a:solidFill>
                <a:latin typeface="Arial"/>
              </a:rPr>
              <a:t>Desarrollo de talleres de lectura y escritura.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2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Arial"/>
              </a:rPr>
              <a:t>Muchas gracias por la atención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Arial"/>
              </a:rPr>
              <a:t>aele@asociacionaele.org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3780000" y="3141720"/>
            <a:ext cx="1584000" cy="103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SOCIACIÓN ESPAÑOLA DE LECTURA Y ESCRITURA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3851280" y="1844640"/>
            <a:ext cx="1368360" cy="89532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6"/>
          <p:cNvSpPr/>
          <p:nvPr/>
        </p:nvSpPr>
        <p:spPr>
          <a:xfrm>
            <a:off x="468360" y="2924280"/>
            <a:ext cx="8136000" cy="2376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8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00"/>
                </a:solidFill>
                <a:latin typeface="Arial"/>
              </a:rPr>
              <a:t>- Filial Nacional de la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3300"/>
                </a:solidFill>
                <a:latin typeface="Arial"/>
              </a:rPr>
              <a:t>IRA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, Asociación Internacional de Lectura (</a:t>
            </a:r>
            <a:r>
              <a:rPr b="0" lang="es-ES" sz="2000" spc="-1" strike="noStrike" u="sng">
                <a:solidFill>
                  <a:srgbClr val="333300"/>
                </a:solidFill>
                <a:uFillTx/>
                <a:latin typeface="Arial"/>
                <a:hlinkClick r:id="rId2"/>
              </a:rPr>
              <a:t>www.reading.org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- Miembro de </a:t>
            </a:r>
            <a:r>
              <a:rPr b="1" lang="es-ES" sz="2000" spc="-1" strike="noStrike">
                <a:solidFill>
                  <a:srgbClr val="003300"/>
                </a:solidFill>
                <a:latin typeface="Arial"/>
              </a:rPr>
              <a:t>IDEC</a:t>
            </a: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, Comité Europeo de la Asociación Internacional de Lectura.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algn="just"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00"/>
                </a:solidFill>
                <a:latin typeface="Arial"/>
              </a:rPr>
              <a:t>- Socia fundadora de la Federación de Asociaciones Europeas de Lectura </a:t>
            </a:r>
            <a:r>
              <a:rPr b="1" lang="es-ES" sz="2000" spc="-1" strike="noStrike">
                <a:solidFill>
                  <a:srgbClr val="003300"/>
                </a:solidFill>
                <a:latin typeface="Arial"/>
              </a:rPr>
              <a:t>(FELA)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468360" y="5445000"/>
            <a:ext cx="5976720" cy="12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003300"/>
                </a:solidFill>
                <a:latin typeface="Arial"/>
              </a:rPr>
              <a:t>DATOS DE CONTACTO: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Página </a:t>
            </a:r>
            <a:r>
              <a:rPr b="0" i="1" lang="es-ES" sz="1800" spc="-1" strike="noStrike">
                <a:solidFill>
                  <a:srgbClr val="003300"/>
                </a:solidFill>
                <a:latin typeface="Arial"/>
              </a:rPr>
              <a:t>web</a:t>
            </a: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: </a:t>
            </a:r>
            <a:r>
              <a:rPr b="0" lang="es-ES" sz="1800" spc="-1" strike="noStrike" u="sng">
                <a:solidFill>
                  <a:srgbClr val="333300"/>
                </a:solidFill>
                <a:uFillTx/>
                <a:latin typeface="Arial"/>
                <a:hlinkClick r:id="rId3"/>
              </a:rPr>
              <a:t>www.asociacion</a:t>
            </a:r>
            <a:r>
              <a:rPr b="0" lang="es-ES" sz="1800" spc="-1" strike="noStrike" u="sng">
                <a:solidFill>
                  <a:srgbClr val="333300"/>
                </a:solidFill>
                <a:uFillTx/>
                <a:latin typeface="Arial"/>
                <a:hlinkClick r:id="rId4"/>
              </a:rPr>
              <a:t>aele</a:t>
            </a:r>
            <a:r>
              <a:rPr b="0" lang="es-ES" sz="1800" spc="-1" strike="noStrike" u="sng">
                <a:solidFill>
                  <a:srgbClr val="333300"/>
                </a:solidFill>
                <a:uFillTx/>
                <a:latin typeface="Arial"/>
                <a:hlinkClick r:id="rId5"/>
              </a:rPr>
              <a:t>.org</a:t>
            </a: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Correo electrónico: </a:t>
            </a:r>
            <a:r>
              <a:rPr b="0" lang="es-ES" sz="1800" spc="-1" strike="noStrike" u="sng">
                <a:solidFill>
                  <a:srgbClr val="333300"/>
                </a:solidFill>
                <a:uFillTx/>
                <a:latin typeface="Arial"/>
                <a:hlinkClick r:id="rId6"/>
              </a:rPr>
              <a:t>aele@asociacion</a:t>
            </a:r>
            <a:r>
              <a:rPr b="0" lang="es-ES" sz="1800" spc="-1" strike="noStrike" u="sng">
                <a:solidFill>
                  <a:srgbClr val="333300"/>
                </a:solidFill>
                <a:uFillTx/>
                <a:latin typeface="Arial"/>
                <a:hlinkClick r:id="rId7"/>
              </a:rPr>
              <a:t>aele</a:t>
            </a:r>
            <a:r>
              <a:rPr b="0" lang="es-ES" sz="1800" spc="-1" strike="noStrike" u="sng">
                <a:solidFill>
                  <a:srgbClr val="333300"/>
                </a:solidFill>
                <a:uFillTx/>
                <a:latin typeface="Arial"/>
                <a:hlinkClick r:id="rId8"/>
              </a:rPr>
              <a:t>.org</a:t>
            </a:r>
            <a:r>
              <a:rPr b="0" lang="es-ES" sz="1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539280" y="1557000"/>
            <a:ext cx="8209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00"/>
                </a:solidFill>
                <a:latin typeface="Arial"/>
              </a:rPr>
              <a:t>La Asociación Española de Lectura y Escritura (AELE)</a:t>
            </a:r>
            <a:r>
              <a:rPr b="0" lang="es-ES" sz="3200" spc="-1" strike="noStrike">
                <a:solidFill>
                  <a:srgbClr val="003300"/>
                </a:solidFill>
                <a:latin typeface="Arial"/>
              </a:rPr>
              <a:t> retroalimenta sus programas de actuación estableciendo interrelación entre sus estudios de campo y los desarrollados por el </a:t>
            </a:r>
            <a:r>
              <a:rPr b="1" lang="es-ES" sz="3200" spc="-1" strike="noStrike">
                <a:solidFill>
                  <a:srgbClr val="003300"/>
                </a:solidFill>
                <a:latin typeface="Arial"/>
              </a:rPr>
              <a:t>Grupo de Investigación “Fracaso escolar y competencias comunicativas” (UCM)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22" name="Picture 4" descr=""/>
          <p:cNvPicPr/>
          <p:nvPr/>
        </p:nvPicPr>
        <p:blipFill>
          <a:blip r:embed="rId1"/>
          <a:stretch/>
        </p:blipFill>
        <p:spPr>
          <a:xfrm>
            <a:off x="7451640" y="522360"/>
            <a:ext cx="1297080" cy="847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8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8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6840" y="2341080"/>
            <a:ext cx="8435880" cy="209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336600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Arial"/>
              </a:rPr>
              <a:t>Es difícil ser competente en el uso de un lenguaje sin participar en auténticas prácticas de lectura, de escritura y de conversación en dicho lenguaje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468360" y="620640"/>
            <a:ext cx="8424720" cy="15570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 este proceso de intercambio, ha surgido una amplia gama de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DEAS-EJE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que han retroalimentado los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OGRAMAS 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e actuación de la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AELE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en la población infantil y juvenil, entre ellas: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25" name="Group 8"/>
          <p:cNvGrpSpPr/>
          <p:nvPr/>
        </p:nvGrpSpPr>
        <p:grpSpPr>
          <a:xfrm>
            <a:off x="611280" y="4437000"/>
            <a:ext cx="8281800" cy="1947960"/>
            <a:chOff x="611280" y="4437000"/>
            <a:chExt cx="8281800" cy="1947960"/>
          </a:xfrm>
        </p:grpSpPr>
        <p:sp>
          <p:nvSpPr>
            <p:cNvPr id="126" name="Text Box 6"/>
            <p:cNvSpPr/>
            <p:nvPr/>
          </p:nvSpPr>
          <p:spPr>
            <a:xfrm>
              <a:off x="611280" y="5559480"/>
              <a:ext cx="8281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3300"/>
                  </a:solidFill>
                  <a:latin typeface="Arial"/>
                </a:rPr>
                <a:t>En las aulas, ¿se organizan estas prácticas en cantidad y variedad suficiente?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27" name="AutoShape 7"/>
            <p:cNvSpPr/>
            <p:nvPr/>
          </p:nvSpPr>
          <p:spPr>
            <a:xfrm rot="5400000">
              <a:off x="4211280" y="4581360"/>
              <a:ext cx="1081080" cy="79236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336600"/>
                </a:gs>
              </a:gsLst>
              <a:lin ang="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8360" y="62028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4600" indent="-444600" algn="just">
              <a:lnSpc>
                <a:spcPct val="90000"/>
              </a:lnSpc>
              <a:spcBef>
                <a:spcPts val="700"/>
              </a:spcBef>
              <a:buClr>
                <a:srgbClr val="336600"/>
              </a:buClr>
              <a:buSzPct val="75000"/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La planificación enunciativa de un texto supone definir  la responsabilidad de quien enuncia en distintos aspectos del lenguaje. De modo que, </a:t>
            </a:r>
            <a:r>
              <a:rPr b="1" lang="es-ES" sz="2800" spc="-1" strike="noStrike">
                <a:solidFill>
                  <a:srgbClr val="003300"/>
                </a:solidFill>
                <a:latin typeface="Arial"/>
              </a:rPr>
              <a:t>enfrentarse a la producción escrita con autonomía incrementa la curiosidad por indagar en el lenguaje escrito</a:t>
            </a: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 (incluso, es un camino hacia la lectura, a la que tanto se convoca independientemente de la práctica de la escritura). 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29" name="Group 6"/>
          <p:cNvGrpSpPr/>
          <p:nvPr/>
        </p:nvGrpSpPr>
        <p:grpSpPr>
          <a:xfrm>
            <a:off x="826920" y="4221000"/>
            <a:ext cx="7921800" cy="2194200"/>
            <a:chOff x="826920" y="4221000"/>
            <a:chExt cx="7921800" cy="2194200"/>
          </a:xfrm>
        </p:grpSpPr>
        <p:sp>
          <p:nvSpPr>
            <p:cNvPr id="130" name="Text Box 4"/>
            <p:cNvSpPr/>
            <p:nvPr/>
          </p:nvSpPr>
          <p:spPr>
            <a:xfrm>
              <a:off x="826920" y="5589720"/>
              <a:ext cx="7921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3300"/>
                  </a:solidFill>
                  <a:latin typeface="Arial"/>
                </a:rPr>
                <a:t>En las aulas, ¿se organizan suficientes propuestas de escritura en contextos comunicativos?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31" name="AutoShape 5"/>
            <p:cNvSpPr/>
            <p:nvPr/>
          </p:nvSpPr>
          <p:spPr>
            <a:xfrm rot="5400000">
              <a:off x="4211280" y="4365360"/>
              <a:ext cx="1081080" cy="79236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336600"/>
                </a:gs>
              </a:gsLst>
              <a:lin ang="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68360" y="981000"/>
            <a:ext cx="82296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6600"/>
              </a:buClr>
              <a:buSzPct val="75000"/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El reconocimiento docente de las propias zonas de “analfabetismo”, propicia la identificación de la complejidad que implica aprender un lenguaje (en tiempos, situaciones, géneros textuales, etc.). </a:t>
            </a:r>
            <a:r>
              <a:rPr b="1" lang="es-ES" sz="2800" spc="-1" strike="noStrike">
                <a:solidFill>
                  <a:srgbClr val="003300"/>
                </a:solidFill>
                <a:latin typeface="Arial"/>
              </a:rPr>
              <a:t>El papel del error</a:t>
            </a:r>
            <a:r>
              <a:rPr b="0" lang="es-ES" sz="2800" spc="-1" strike="noStrike">
                <a:solidFill>
                  <a:srgbClr val="003300"/>
                </a:solidFill>
                <a:latin typeface="Arial"/>
              </a:rPr>
              <a:t>.</a:t>
            </a:r>
            <a:r>
              <a:rPr b="0" lang="es-ES" sz="32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33" name="Group 6"/>
          <p:cNvGrpSpPr/>
          <p:nvPr/>
        </p:nvGrpSpPr>
        <p:grpSpPr>
          <a:xfrm>
            <a:off x="1042920" y="4005360"/>
            <a:ext cx="6985080" cy="2193840"/>
            <a:chOff x="1042920" y="4005360"/>
            <a:chExt cx="6985080" cy="2193840"/>
          </a:xfrm>
        </p:grpSpPr>
        <p:sp>
          <p:nvSpPr>
            <p:cNvPr id="134" name="Text Box 4"/>
            <p:cNvSpPr/>
            <p:nvPr/>
          </p:nvSpPr>
          <p:spPr>
            <a:xfrm>
              <a:off x="1042920" y="5373720"/>
              <a:ext cx="6985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3300"/>
                  </a:solidFill>
                  <a:latin typeface="Arial"/>
                </a:rPr>
                <a:t>¿Qué papel juega el error en los procesos de aprendizaje del lenguaje escrito?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35" name="AutoShape 5"/>
            <p:cNvSpPr/>
            <p:nvPr/>
          </p:nvSpPr>
          <p:spPr>
            <a:xfrm rot="5400000">
              <a:off x="3995640" y="4149720"/>
              <a:ext cx="1081080" cy="79200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336600"/>
                </a:gs>
              </a:gsLst>
              <a:lin ang="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324000" y="907920"/>
            <a:ext cx="842472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336600"/>
              </a:buClr>
              <a:buSzPct val="7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Arial"/>
              </a:rPr>
              <a:t>Las distintas normas lingüísticas se comprenden e internalizan si se asientan en experiencias comunicativas (orden de la pragmática). </a:t>
            </a:r>
            <a:r>
              <a:rPr b="1" lang="es-ES" sz="3200" spc="-1" strike="noStrike">
                <a:solidFill>
                  <a:srgbClr val="003300"/>
                </a:solidFill>
                <a:latin typeface="Arial"/>
              </a:rPr>
              <a:t>El papel de las trasposiciones didácticas: experiencia, conocimiento y conceptualización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marL="6094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37" name="Group 6"/>
          <p:cNvGrpSpPr/>
          <p:nvPr/>
        </p:nvGrpSpPr>
        <p:grpSpPr>
          <a:xfrm>
            <a:off x="468360" y="4292640"/>
            <a:ext cx="8351640" cy="2049480"/>
            <a:chOff x="468360" y="4292640"/>
            <a:chExt cx="8351640" cy="2049480"/>
          </a:xfrm>
        </p:grpSpPr>
        <p:sp>
          <p:nvSpPr>
            <p:cNvPr id="138" name="Text Box 4"/>
            <p:cNvSpPr/>
            <p:nvPr/>
          </p:nvSpPr>
          <p:spPr>
            <a:xfrm>
              <a:off x="468360" y="5516640"/>
              <a:ext cx="83516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3300"/>
                  </a:solidFill>
                  <a:latin typeface="Arial"/>
                </a:rPr>
                <a:t>En las aulas, ¿cómo se realiza la trasposición didáctica entre objeto de conocimiento y objeto de enseñanza?</a:t>
              </a:r>
              <a:r>
                <a:rPr b="0" lang="es-ES" sz="1800" spc="-1" strike="noStrike">
                  <a:solidFill>
                    <a:srgbClr val="0033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39" name="AutoShape 5"/>
            <p:cNvSpPr/>
            <p:nvPr/>
          </p:nvSpPr>
          <p:spPr>
            <a:xfrm rot="5400000">
              <a:off x="4140000" y="4437000"/>
              <a:ext cx="1081080" cy="79200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336600"/>
                </a:gs>
              </a:gsLst>
              <a:lin ang="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5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395280" y="980640"/>
            <a:ext cx="8229600" cy="18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 algn="just">
              <a:spcBef>
                <a:spcPts val="799"/>
              </a:spcBef>
              <a:buClr>
                <a:srgbClr val="336600"/>
              </a:buClr>
              <a:buSzPct val="75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3300"/>
                </a:solidFill>
                <a:latin typeface="Arial"/>
              </a:rPr>
              <a:t>La </a:t>
            </a:r>
            <a:r>
              <a:rPr b="1" lang="es-ES" sz="3200" spc="-1" strike="noStrike">
                <a:solidFill>
                  <a:srgbClr val="003300"/>
                </a:solidFill>
                <a:latin typeface="Arial"/>
              </a:rPr>
              <a:t>tecnología de la escritura</a:t>
            </a:r>
            <a:r>
              <a:rPr b="0" lang="es-ES" sz="3200" spc="-1" strike="noStrike">
                <a:solidFill>
                  <a:srgbClr val="003300"/>
                </a:solidFill>
                <a:latin typeface="Arial"/>
              </a:rPr>
              <a:t> ocupar un lugar importante en el aprendizaje del lenguaje. No, un lugar prioritario.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141" name="Group 6"/>
          <p:cNvGrpSpPr/>
          <p:nvPr/>
        </p:nvGrpSpPr>
        <p:grpSpPr>
          <a:xfrm>
            <a:off x="971640" y="3429000"/>
            <a:ext cx="7272360" cy="2265480"/>
            <a:chOff x="971640" y="3429000"/>
            <a:chExt cx="7272360" cy="2265480"/>
          </a:xfrm>
        </p:grpSpPr>
        <p:sp>
          <p:nvSpPr>
            <p:cNvPr id="142" name="Text Box 4"/>
            <p:cNvSpPr/>
            <p:nvPr/>
          </p:nvSpPr>
          <p:spPr>
            <a:xfrm>
              <a:off x="971640" y="4869000"/>
              <a:ext cx="72723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3300"/>
                  </a:solidFill>
                  <a:latin typeface="Arial"/>
                </a:rPr>
                <a:t>En la enseñanza del lenguaje escrito, ¿qué papel tiene asignada esta tecnología? </a:t>
              </a: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143" name="AutoShape 5"/>
            <p:cNvSpPr/>
            <p:nvPr/>
          </p:nvSpPr>
          <p:spPr>
            <a:xfrm rot="5400000">
              <a:off x="3995640" y="3573360"/>
              <a:ext cx="1081080" cy="792000"/>
            </a:xfrm>
            <a:prstGeom prst="pie">
              <a:avLst/>
            </a:prstGeom>
            <a:gradFill rotWithShape="0">
              <a:gsLst>
                <a:gs pos="0">
                  <a:srgbClr val="669900"/>
                </a:gs>
                <a:gs pos="100000">
                  <a:srgbClr val="336600"/>
                </a:gs>
              </a:gsLst>
              <a:lin ang="0"/>
            </a:gradFill>
            <a:ln w="93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457200" y="1980720"/>
            <a:ext cx="8229600" cy="38862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329680" cy="5472000"/>
          </a:xfrm>
          <a:prstGeom prst="rect">
            <a:avLst/>
          </a:prstGeom>
          <a:solidFill>
            <a:srgbClr val="3366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CUESTIONES TODAS que no PROPICIAN la INCLUSIÓN de un ALUMNADO DIVERSO…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¿De qué tipo de DIVERSIDAD hablamos? 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¡¡NECESIDAD de INNOVAR!!</a:t>
            </a:r>
            <a:br>
              <a:rPr sz="2800"/>
            </a:b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PUNTO DE MIRA: </a:t>
            </a:r>
            <a:br>
              <a:rPr sz="2800"/>
            </a:b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el desarrollo de COMPETENCIAS en COMUNICACIÓN LINGÜÍSTICA desde la perspectiva de la INCLUSIÓN</a:t>
            </a:r>
            <a:br>
              <a:rPr sz="2800"/>
            </a:b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0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3T14:24:23Z</dcterms:created>
  <dc:creator>aele</dc:creator>
  <dc:description/>
  <dc:language>en-US</dc:language>
  <cp:lastModifiedBy>ESTELA DANGELO</cp:lastModifiedBy>
  <dcterms:modified xsi:type="dcterms:W3CDTF">2009-05-05T05:26:49Z</dcterms:modified>
  <cp:revision>40</cp:revision>
  <dc:subject/>
  <dc:title>Diapositiva 1</dc:title>
</cp:coreProperties>
</file>