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F82-F871-4275-A73A-750AB22F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075-A592-4FC5-9819-F667C495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957-8A63-4B3F-9B3B-D894A521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32F-2327-4630-BB2D-1336452D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DA00-ED59-465D-8007-23C2C75A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5641-D956-4787-AD0B-877D2930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62BB-E7F5-40F6-B7B1-855DB6C3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AA22-32A1-474D-AAE1-0D277681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A42E-5405-4426-9C07-DD26F6F5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D674-7BAF-48B3-97BA-A801CA9E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7F43-7DEE-459F-83E8-9DBC6C36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E57-6662-47BA-96A6-DD11150F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F8ED-D105-43EB-87E4-3B75C5DB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10EE-8C93-4D9A-B179-A90E8652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9B3E-658D-4BAE-86CF-96C5849E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5986-AF39-46FF-BB2F-D923FC3B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33D9-69F1-4A1D-805C-7FDC3FA4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1EA68-5462-482A-879F-753376D1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F4E79-BDE7-46B4-AB70-05C59A45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D9C4E-7C13-42F6-B904-589EC606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0260D-A42C-4C22-A338-CF1C63BF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A1732-AF93-430C-846D-89082C5D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FF3-268A-479B-A0D8-699E9945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922CC-7D5D-4DAF-A24E-B9DA65C7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D549C-BE7F-44D4-8809-B7516912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866E7-F527-4FF0-8550-A96778C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33D63-E4D1-4E6F-BB08-9DF443AB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9D669-B556-41AF-812D-33B6C232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BA9E9-2EAF-42F6-93D3-1C4B35B4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6A112-7A42-496A-86B2-9E21E12C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62CA-124E-490D-BF36-A049819D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48F1-5715-459C-85B5-C67C449C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9E16-F6CC-4E77-81D7-D2A8F2DD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D4C-DFF8-4642-B2F2-07F3F53B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20E9-097E-41DB-AAFB-0D29AFC1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D30D-3FBB-484C-A479-D51C8C6E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443B5-981C-4F87-B76E-9E878871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9D05B-87F2-4BEA-A3B1-43871948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9459C-11B6-45EA-A811-D4FC83FC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E2A5C-5021-4F7C-9BDB-3E9F582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91B5E-2D79-4D63-95CA-33EF7DC0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301A0-FDF6-47D1-B922-5C72DDD0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E320F-C6E5-4D36-B61C-ACD19F31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03240-51ED-4A7C-8C8C-5A627E24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267-A933-466C-8F68-1CF97132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B8D9B-2E33-499F-B330-2B7B85FC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D945B-521F-4F7B-86EE-A37CD09C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2D313-4CB9-400F-BAED-C80A3EFD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C8724-16CB-41B7-94BF-A6AC3115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A2979-FB2C-47B5-892B-106E7054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F53A9-EFB2-45C0-95E5-D23FA1B1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09DC4-EAEB-4DF2-8DF3-8CE36860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988CF-EBFE-4B82-AD6E-37D5AC2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E45BF-B5FA-437C-94E2-607457C9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4460F-89DE-4A82-8786-7B74D3FC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B66-C7A7-4EBE-AA34-E349C312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DBC26-A837-4C0C-ACEF-EB441A03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413AD-383B-46B0-981A-AF091794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BF2C4-89A0-4ABB-AC68-551926DF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CC37E-2F0C-403E-A4BD-9CCEB702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E61B9-DC52-4234-A70F-D48C4199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470CA-7BB4-49AB-8E8D-82140E56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D62A5-AB54-4451-AB00-D106DBBA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CCF9E-85E5-4924-BF9A-BCD63EB9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44D38-5167-4E25-A5AD-A748F30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05F1F-9DC0-4948-A026-43B7EE44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22E-1465-432C-9A24-7FA112F4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ADC72-2317-4C48-8919-C6133964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09441F-460C-46F2-A1DA-741B75BE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5180D-1F15-439F-8943-35F0672C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99C4E-4D98-4AE8-8D9B-0376162E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4D6C2-7E6B-4644-9E66-6E97347C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65810-0681-413A-8341-9EC35784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8967A-F230-4398-9E20-20C539D4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7C64A-5189-49E5-8CFD-86EB928C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C4C6F-5AEB-4F94-8050-AE01F546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79493-AA6E-49E9-B421-28EAA894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FE3-60BC-4D4C-8C70-A1B10F45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414C5-F5F2-4F6D-964C-D8EFC24D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E67EA-0DCA-4F69-A6E8-4E91B2A4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1DD39-5A78-4CD7-BB9D-C3D8DF9D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47793-7754-4D58-9868-525FEABA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750E6-81D1-4A27-A223-B2F1E492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6A8-7A69-4F44-85E3-323F3DF1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7DA4-3BCE-4A4C-B6C3-0CAB2D52EEB3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C83C-9248-495D-A4A4-4A7A1B0D562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D8BF-A131-4DB2-9DEF-FA1DC726B331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6D86-1B37-41B3-8016-656207E3817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0582-20B2-45C0-9A6B-065A886CF623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FBE9-5C35-4783-9AF9-4F970B2DCA2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2BE9-CB95-48EF-A68A-C23C043BCF8B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A4D9-3F8C-4E50-BE1A-9210314EEF7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EABB-4DAC-4179-9689-30B6BCAB78E3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1BCA-A1C5-429D-9C8C-EFB6B3B9B51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68F-27BB-42E9-A8E2-4351261F1425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4CDF-893E-4500-8FC9-49AA230D409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B80E-0748-4A7E-9764-DC9EB1C8C38D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F2AC-7300-400C-A71E-53952635EC5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INNOVACIÓN DIDÁCTICA Y CAMBIOS EDUCATIVOS EN ESPAÑA. </a:t>
            </a:r>
            <a:br>
              <a:rPr sz="3000"/>
            </a:b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EL PROYECTO GEA-CLÍO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714480" y="4714920"/>
            <a:ext cx="3857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istina Sapiñ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an Sebastián 200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6E05-62CC-4641-A78D-CAE215123806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4.-LOS CONDICIONANTES LEGALES: LOGSE, LOCE, LOE (2000-05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ifundir el proyecto entre otros profes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daptarse a las normativas leg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Fue el germen de los cuatro libros (en sus ediciones en castellano y valenciano) de Ciencias Sociales, geografía e historia que se editan por Nau Llibres a partir de 2002 y fueron sometidos a su revisión y nueva edición en el año 2005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1945-230B-48E0-B416-43195D41CB2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E5CB-A2C7-46EE-9466-534B8E5972E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portada llibre nau 1 sense ed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3048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portada llibre nau sense ed2"/>
          <p:cNvPicPr/>
          <p:nvPr/>
        </p:nvPicPr>
        <p:blipFill>
          <a:blip r:embed="rId2"/>
          <a:stretch/>
        </p:blipFill>
        <p:spPr>
          <a:xfrm>
            <a:off x="3214800" y="214200"/>
            <a:ext cx="2428920" cy="304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portada nau 3 sense ed"/>
          <p:cNvPicPr/>
          <p:nvPr/>
        </p:nvPicPr>
        <p:blipFill>
          <a:blip r:embed="rId3"/>
          <a:stretch/>
        </p:blipFill>
        <p:spPr>
          <a:xfrm>
            <a:off x="5857920" y="214200"/>
            <a:ext cx="2357280" cy="2855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Gea8"/>
          <p:cNvPicPr/>
          <p:nvPr/>
        </p:nvPicPr>
        <p:blipFill>
          <a:blip r:embed="rId4"/>
          <a:stretch/>
        </p:blipFill>
        <p:spPr>
          <a:xfrm>
            <a:off x="5143680" y="3500280"/>
            <a:ext cx="2674800" cy="3143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Gea9"/>
          <p:cNvPicPr/>
          <p:nvPr/>
        </p:nvPicPr>
        <p:blipFill>
          <a:blip r:embed="rId5"/>
          <a:stretch/>
        </p:blipFill>
        <p:spPr>
          <a:xfrm>
            <a:off x="1500120" y="3286080"/>
            <a:ext cx="3463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5.- LA SITUACIÓN ACTUAL: EL ESPACIO PÚBLICO Y LA REVISIÓN DE LOS MATERIAL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ormación del profesor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tividades de difusión cul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tividades con FAP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uniones mensuales de los integrantes del gru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3503-DBAE-4561-9318-0FD735DA39B0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LOS DIFICULTADES DE LA INNOVACIÓN EN LOS MATERI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.-Los materiales se hacen pensando en un contexto. ¿Es posible generalizarl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.-Los materiales implican un cambio de cultura docente ¿Formación en r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.-Los materiales se difunden con trabas en el mercado ¿Institucion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.-Los materiales deben ser evaluados constantemente ¿Reeditar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450B-596E-4717-A056-33E0B1833EF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1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108A-ECCC-4D4E-8CB8-F6E06089ABB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2 Rectángulo"/>
          <p:cNvSpPr/>
          <p:nvPr/>
        </p:nvSpPr>
        <p:spPr>
          <a:xfrm>
            <a:off x="1071720" y="1714680"/>
            <a:ext cx="692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tilidad del saber social para comprender el mundo en que viv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cilitar el aprendizaje de las personas desde estrategias de enseñanza vá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r la actitud de autonomía responsable del profes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3 CuadroTexto"/>
          <p:cNvSpPr/>
          <p:nvPr/>
        </p:nvSpPr>
        <p:spPr>
          <a:xfrm>
            <a:off x="1799640" y="928800"/>
            <a:ext cx="48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es principios bás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14752"/>
                </a:solidFill>
                <a:latin typeface="Century Schoolbook"/>
              </a:rPr>
              <a:t>ORIGEN Y EVOLUCIÓN DEL GRUPO GEA-CLÍ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Una hipótesis inicial: 1985-1990. Los principios básicos del proyec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formación de personas y grupos: 1991-1994. El apoyo de los CE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construcción de un proyecto editorial (1995-2000): La Na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debate sobre los condicionantes legales: LOGSE, LOCE, LOE (2000-05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situación actual: el espacio público y la revisión de los materiale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E7C8-0E98-4F11-BAE0-6037A651AD60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LAS TESIS QUE APOYAN LA CONCEPCIÓN DE GEA-CLÍ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a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os grupos de trabajo pueden experimentar y reflexionar en relación con las unidades didáctica siempre que exista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un soporte de proyecto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b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as difusiones de las innovaciones didácticas son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interpersonales e informale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. Se necesita adaptar los principios genéricos a los contextos de cada centro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c)Los proyectos curriculares determinan un modelo de formación del profesorado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y el papel de éste como agente social en la educación de las persona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d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n un proyecto innovador para la autonomía intelectual es preciso contar con las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ideas cotidianas de los alumno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. Conocer éstas es un reto de investigació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e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a cultura de los grupos de trabajo permite evaluar los proyectos y abordar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problemas relevante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dentro del marco escola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4401-DA21-4C5F-8290-5782FD82DD5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57760" y="1643040"/>
            <a:ext cx="48290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CONFECCIÓN DE MATERIALES DIDÁCTICOS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INCORPORAN PROBLEMAS SOCIALES RELEVANTES DEL PRESENTE                          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ANALIZADOS DESDE LA PERSPECTIVA DISCIPLINAR DE LA GEOGRAFÍA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ORGANIZADOS EN TORNO AL CONSTRUCTIVISMO COMO METODOLOGÍA DE TRABAJO EN EL AULA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4" descr="gea2"/>
          <p:cNvPicPr/>
          <p:nvPr/>
        </p:nvPicPr>
        <p:blipFill>
          <a:blip r:embed="rId1"/>
          <a:stretch/>
        </p:blipFill>
        <p:spPr>
          <a:xfrm>
            <a:off x="571680" y="1643040"/>
            <a:ext cx="2828880" cy="4357800"/>
          </a:xfrm>
          <a:prstGeom prst="rect">
            <a:avLst/>
          </a:prstGeom>
          <a:ln w="0">
            <a:noFill/>
          </a:ln>
        </p:spPr>
      </p:pic>
      <p:sp>
        <p:nvSpPr>
          <p:cNvPr id="362" name="6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00D9-E66C-4F97-8E8F-51ADCC06857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 Título"/>
          <p:cNvSpPr/>
          <p:nvPr/>
        </p:nvSpPr>
        <p:spPr>
          <a:xfrm>
            <a:off x="500040" y="285840"/>
            <a:ext cx="8186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1.- Una hipótesis inicial: 1985-1990. Los principios básicos del proye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2900" spc="-1" strike="noStrike">
                <a:solidFill>
                  <a:srgbClr val="575f6d"/>
                </a:solidFill>
                <a:latin typeface="Century Schoolbook"/>
              </a:rPr>
              <a:t>2.- LA FORMACIÓN DE PERSONAS Y GRUPOS: 1991-1994. EL APOYO DE LOS CEPS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solidación del gru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áxima difusión a través de Jornadas, cursos de formación en diferentes lugares de España, encuentro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eación de grupos en Alicante, Segorbe, Vigo, Santia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laboración con la Universidad de Valencia  y en otras universidades, especialmente en Lisbo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aboración de un proyecto de investigación e innovación en 1995, subvencionado por el CIDE ( 13 asesorías del CEP de Valencia y 113 personas organizadas en catorce equipos de trabajo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5954-0AA8-4261-9DF3-8350E70F0B84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3.- LA CONSTRUCCIÓN DE UN PROYECTO EDITORIAL (1995-2000): LA NAU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yecto editorial,  fruto del trabajo del CIDE, que abarca la mayor parte de los niveles de ESO y Bachillerato, y que incorpora, de forma decidida la visión de la historia a la perspectiva geográfica ini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oble objetivo: mantener la cohesión del grupo y resistir el retroceso contrarreformist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tegración en 1998 en Fedicaria, una federación de grupos de innovación educativa que se constituye en 1995. y cuenta con la revista Con-ciencia Social en 1997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FF33-CCF1-43C6-934F-F932DD7C969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4" descr="gea 3"/>
          <p:cNvPicPr/>
          <p:nvPr/>
        </p:nvPicPr>
        <p:blipFill>
          <a:blip r:embed="rId1"/>
          <a:stretch/>
        </p:blipFill>
        <p:spPr>
          <a:xfrm>
            <a:off x="1357200" y="0"/>
            <a:ext cx="6858000" cy="6240600"/>
          </a:xfrm>
          <a:prstGeom prst="rect">
            <a:avLst/>
          </a:prstGeom>
          <a:ln w="0">
            <a:noFill/>
          </a:ln>
        </p:spPr>
      </p:pic>
      <p:sp>
        <p:nvSpPr>
          <p:cNvPr id="372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C9AF-3F3C-436F-988D-F5F874187BD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E197-DE6C-4750-AA07-43BE43A8AA2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gea 4"/>
          <p:cNvPicPr/>
          <p:nvPr/>
        </p:nvPicPr>
        <p:blipFill>
          <a:blip r:embed="rId1"/>
          <a:stretch/>
        </p:blipFill>
        <p:spPr>
          <a:xfrm>
            <a:off x="1500120" y="428760"/>
            <a:ext cx="66438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BDBE-4D23-4301-9A75-5864CE19E49C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gea5"/>
          <p:cNvPicPr/>
          <p:nvPr/>
        </p:nvPicPr>
        <p:blipFill>
          <a:blip r:embed="rId1"/>
          <a:stretch/>
        </p:blipFill>
        <p:spPr>
          <a:xfrm>
            <a:off x="3000240" y="285840"/>
            <a:ext cx="5429520" cy="5786280"/>
          </a:xfrm>
          <a:prstGeom prst="rect">
            <a:avLst/>
          </a:prstGeom>
          <a:ln w="0">
            <a:noFill/>
          </a:ln>
        </p:spPr>
      </p:pic>
      <p:sp>
        <p:nvSpPr>
          <p:cNvPr id="377" name="5 CuadroTexto"/>
          <p:cNvSpPr/>
          <p:nvPr/>
        </p:nvSpPr>
        <p:spPr>
          <a:xfrm>
            <a:off x="857160" y="1143000"/>
            <a:ext cx="1928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ias didac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zación cient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ategias y recursos para el prof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9:32:09Z</dcterms:created>
  <dc:creator>Cristina</dc:creator>
  <dc:description/>
  <dc:language>en-US</dc:language>
  <cp:lastModifiedBy>Cristina</cp:lastModifiedBy>
  <dcterms:modified xsi:type="dcterms:W3CDTF">2009-05-05T22:28:38Z</dcterms:modified>
  <cp:revision>59</cp:revision>
  <dc:subject/>
  <dc:title>Diapositiva 1</dc:title>
</cp:coreProperties>
</file>