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0F74-1B0A-46B5-ADE8-42E389E9CB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E6A7-4437-463C-B2A6-5ACA3313E1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3AEA-C64C-4B00-9A97-A91254F8D9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6BF3-C51A-48B6-BFB2-FC10D71151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6976-6A0E-45E4-8161-ACA161B122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9B01-A951-4B0D-BE2E-8371757CED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69A9-3287-4FAB-A383-AA957A7A4D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F694-88CE-4725-9289-65143FA3BA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1F25-A7BA-4C71-90D6-9CBF9066C4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481-8AC9-4212-96A9-FD8336D3CC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1912-02DD-4509-AECF-3450077CD9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70AE-E338-4161-AB40-8E182FF4C4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CC8-E928-41B8-9B9E-C2B65380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D68-C029-4BA1-BF35-D9577E8E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3D8-9B9E-4AD4-ABDB-35FCEB3E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253-A96E-4AC8-A90F-2A4CBB9F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2D4-E8C3-4EB3-84DA-A5D18598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44B-2C7A-4D06-B985-329558A0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F09-56D6-46AC-9F65-41A08437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FFB-ACD8-40E9-AEB5-EC603CA7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4DC-B9B7-449C-BC32-E6E9199D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481-B7ED-4653-89D9-BE9B069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77A-E021-4A66-A9AE-A1C20DB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627-44ED-4A20-891F-F879406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D643-8D8A-4E3B-94AD-70E2BD4F1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9 Imagen" descr="logo english.jpg"/>
          <p:cNvPicPr/>
          <p:nvPr/>
        </p:nvPicPr>
        <p:blipFill>
          <a:blip r:embed="rId1"/>
          <a:stretch/>
        </p:blipFill>
        <p:spPr>
          <a:xfrm>
            <a:off x="5657760" y="5479920"/>
            <a:ext cx="2711520" cy="963720"/>
          </a:xfrm>
          <a:prstGeom prst="rect">
            <a:avLst/>
          </a:prstGeom>
          <a:ln w="0">
            <a:noFill/>
          </a:ln>
        </p:spPr>
      </p:pic>
      <p:pic>
        <p:nvPicPr>
          <p:cNvPr id="49" name="6 CuadroTexto" descr=""/>
          <p:cNvPicPr/>
          <p:nvPr/>
        </p:nvPicPr>
        <p:blipFill>
          <a:blip r:embed="rId2"/>
          <a:stretch/>
        </p:blipFill>
        <p:spPr>
          <a:xfrm>
            <a:off x="914400" y="176040"/>
            <a:ext cx="8101080" cy="4992840"/>
          </a:xfrm>
          <a:prstGeom prst="rect">
            <a:avLst/>
          </a:prstGeom>
          <a:ln w="0">
            <a:noFill/>
          </a:ln>
        </p:spPr>
      </p:pic>
      <p:grpSp>
        <p:nvGrpSpPr>
          <p:cNvPr id="50" name="11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51" name="Picture 6" descr="log solo"/>
            <p:cNvPicPr/>
            <p:nvPr/>
          </p:nvPicPr>
          <p:blipFill>
            <a:blip r:embed="rId3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13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35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36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11 CuadroTexto"/>
          <p:cNvSpPr/>
          <p:nvPr/>
        </p:nvSpPr>
        <p:spPr>
          <a:xfrm>
            <a:off x="1834200" y="21420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Principales retos  para lograr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8 Elipse"/>
          <p:cNvGrpSpPr/>
          <p:nvPr/>
        </p:nvGrpSpPr>
        <p:grpSpPr>
          <a:xfrm>
            <a:off x="828720" y="1109520"/>
            <a:ext cx="2195640" cy="1987560"/>
            <a:chOff x="828720" y="1109520"/>
            <a:chExt cx="2195640" cy="1987560"/>
          </a:xfrm>
        </p:grpSpPr>
        <p:pic>
          <p:nvPicPr>
            <p:cNvPr id="140" name="8 Elipse" descr=""/>
            <p:cNvPicPr/>
            <p:nvPr/>
          </p:nvPicPr>
          <p:blipFill>
            <a:blip r:embed="rId3"/>
            <a:stretch/>
          </p:blipFill>
          <p:spPr>
            <a:xfrm>
              <a:off x="828720" y="1109520"/>
              <a:ext cx="2195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171440" y="142560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Elementos materiales, humanos y funcionales  basados en los principios democráticos de la participación, el dialogo y la autonom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13 Elipse"/>
          <p:cNvGrpSpPr/>
          <p:nvPr/>
        </p:nvGrpSpPr>
        <p:grpSpPr>
          <a:xfrm>
            <a:off x="895320" y="3968640"/>
            <a:ext cx="2201760" cy="1987560"/>
            <a:chOff x="895320" y="3968640"/>
            <a:chExt cx="2201760" cy="1987560"/>
          </a:xfrm>
        </p:grpSpPr>
        <p:pic>
          <p:nvPicPr>
            <p:cNvPr id="143" name="13 Elipse" descr=""/>
            <p:cNvPicPr/>
            <p:nvPr/>
          </p:nvPicPr>
          <p:blipFill>
            <a:blip r:embed="rId4"/>
            <a:stretch/>
          </p:blipFill>
          <p:spPr>
            <a:xfrm>
              <a:off x="895320" y="3968640"/>
              <a:ext cx="2201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243080" y="428292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como fruto de la  negociación y el consenso entre todos los miembros de la comunidad educativ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15 Conector recto de flecha"/>
          <p:cNvCxnSpPr/>
          <p:nvPr/>
        </p:nvCxnSpPr>
        <p:spPr>
          <a:xfrm flipH="1">
            <a:off x="1998360" y="3214800"/>
            <a:ext cx="2160" cy="71496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6" name="17 CuadroTexto"/>
          <p:cNvSpPr/>
          <p:nvPr/>
        </p:nvSpPr>
        <p:spPr>
          <a:xfrm>
            <a:off x="3293640" y="1143000"/>
            <a:ext cx="541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HACER DE LA EDUCACION EN VALORES UN PROYECTO COMÚ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imposible educar en aquellos valores que uno mismo no tiene constr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8 CuadroTexto"/>
          <p:cNvSpPr/>
          <p:nvPr/>
        </p:nvSpPr>
        <p:spPr>
          <a:xfrm>
            <a:off x="3224160" y="2000160"/>
            <a:ext cx="597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MENTAR EL DIALOGO Y LA REFLEXION DE LA COMUNIDAD EDUC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llegar a acuerdos. El trabajo con valores ha de ser consensuado y particip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9 CuadroTexto"/>
          <p:cNvSpPr/>
          <p:nvPr/>
        </p:nvSpPr>
        <p:spPr>
          <a:xfrm>
            <a:off x="3291480" y="2857680"/>
            <a:ext cx="565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ESTABLECER ENTRE LA ESCUELA, LA SOCIEDAD Y LAS FAMILIAS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CONSENSO ETICO DE MINIM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ducación en valores no es una responsabilidad exclusiva de la escuela, s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concierne a toda la socie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20 CuadroTexto"/>
          <p:cNvSpPr/>
          <p:nvPr/>
        </p:nvSpPr>
        <p:spPr>
          <a:xfrm>
            <a:off x="3319200" y="3884760"/>
            <a:ext cx="584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VIVENCIAR LOS VAL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trata de construir una escuela que socialice, a Través de todas sus experi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actividades, a sus alumnos y alumnas en valores propios de una soc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ática e igualita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1 CuadroTexto"/>
          <p:cNvSpPr/>
          <p:nvPr/>
        </p:nvSpPr>
        <p:spPr>
          <a:xfrm>
            <a:off x="3323160" y="4786200"/>
            <a:ext cx="55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PERDER EL MIEDO A EDUCAR EN VALOR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y que recuperar desde y para la Escuela su dimensión formadora. Ha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der los complejos y el miedo a educar, a dar criterios, a formar en va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2 CuadroTexto"/>
          <p:cNvSpPr/>
          <p:nvPr/>
        </p:nvSpPr>
        <p:spPr>
          <a:xfrm>
            <a:off x="3300120" y="5572080"/>
            <a:ext cx="523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ASUMIR POR PARTE DEL PROFESORADO SU ROL DE EDUCAD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RMAD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53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54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11 CuadroTexto"/>
          <p:cNvSpPr/>
          <p:nvPr/>
        </p:nvSpPr>
        <p:spPr>
          <a:xfrm>
            <a:off x="1834200" y="21420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Principales retos  para lograr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8 Elipse"/>
          <p:cNvGrpSpPr/>
          <p:nvPr/>
        </p:nvGrpSpPr>
        <p:grpSpPr>
          <a:xfrm>
            <a:off x="828720" y="1109520"/>
            <a:ext cx="2195640" cy="1987560"/>
            <a:chOff x="828720" y="1109520"/>
            <a:chExt cx="2195640" cy="1987560"/>
          </a:xfrm>
        </p:grpSpPr>
        <p:pic>
          <p:nvPicPr>
            <p:cNvPr id="158" name="8 Elipse" descr=""/>
            <p:cNvPicPr/>
            <p:nvPr/>
          </p:nvPicPr>
          <p:blipFill>
            <a:blip r:embed="rId3"/>
            <a:stretch/>
          </p:blipFill>
          <p:spPr>
            <a:xfrm>
              <a:off x="828720" y="1109520"/>
              <a:ext cx="2195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171440" y="142560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Elementos materiales, humanos y funcionales  basados en los principios democráticos de la participación, el dialogo y la autonom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13 Elipse"/>
          <p:cNvGrpSpPr/>
          <p:nvPr/>
        </p:nvGrpSpPr>
        <p:grpSpPr>
          <a:xfrm>
            <a:off x="895320" y="3968640"/>
            <a:ext cx="2201760" cy="1987560"/>
            <a:chOff x="895320" y="3968640"/>
            <a:chExt cx="2201760" cy="1987560"/>
          </a:xfrm>
        </p:grpSpPr>
        <p:pic>
          <p:nvPicPr>
            <p:cNvPr id="161" name="13 Elipse" descr=""/>
            <p:cNvPicPr/>
            <p:nvPr/>
          </p:nvPicPr>
          <p:blipFill>
            <a:blip r:embed="rId4"/>
            <a:stretch/>
          </p:blipFill>
          <p:spPr>
            <a:xfrm>
              <a:off x="895320" y="3968640"/>
              <a:ext cx="2201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243080" y="428292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como fruto de la  negociación y el consenso entre todos los miembros de la comunidad educativ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15 Conector recto de flecha"/>
          <p:cNvCxnSpPr/>
          <p:nvPr/>
        </p:nvCxnSpPr>
        <p:spPr>
          <a:xfrm flipH="1">
            <a:off x="1998360" y="3214800"/>
            <a:ext cx="2160" cy="71496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4" name="17 CuadroTexto"/>
          <p:cNvSpPr/>
          <p:nvPr/>
        </p:nvSpPr>
        <p:spPr>
          <a:xfrm>
            <a:off x="3297600" y="1143000"/>
            <a:ext cx="370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MEJORAR EL TRABAJO CON LOS VAL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bajar los valores es trabajar la transvers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8 CuadroTexto"/>
          <p:cNvSpPr/>
          <p:nvPr/>
        </p:nvSpPr>
        <p:spPr>
          <a:xfrm>
            <a:off x="3250440" y="2000160"/>
            <a:ext cx="59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RMAR AL PROFESORADO PARA EDUCAR EN VALORES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ofesorado presenta profundas carencias y debilidades en materia de 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valores. Carece de formación, instrumentos y estrateg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9 CuadroTexto"/>
          <p:cNvSpPr/>
          <p:nvPr/>
        </p:nvSpPr>
        <p:spPr>
          <a:xfrm>
            <a:off x="3291480" y="2857680"/>
            <a:ext cx="56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RMAR A LOS PADRES COMO EDUC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ducación en valores no es una responsabilidad exclusiva de la escuela, s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concierne a toda la socie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0 CuadroTexto"/>
          <p:cNvSpPr/>
          <p:nvPr/>
        </p:nvSpPr>
        <p:spPr>
          <a:xfrm>
            <a:off x="3301920" y="3884760"/>
            <a:ext cx="58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HACER DEL TIEMPO Y DEL ESPACIO EXTRALECTIVO TIEMPO ACADEM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trabajo con valores tiene que estar sistematizado en todos los ám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1 CuadroTexto"/>
          <p:cNvSpPr/>
          <p:nvPr/>
        </p:nvSpPr>
        <p:spPr>
          <a:xfrm>
            <a:off x="3297240" y="4786200"/>
            <a:ext cx="56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ELABORAR MATERIALES DIDACTICOS APROPIADO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requieren dinámicas participativas, interactivas, abiertas. Son necesarias 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evas tecnologías y un profesorado que pase de transmisor de contenido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amizador y gestor de actividades. Necesario diseñar estrategias integrale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vas de transmisión de valores para todas las etapas educati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109 CuadroTexto"/>
          <p:cNvSpPr/>
          <p:nvPr/>
        </p:nvSpPr>
        <p:spPr>
          <a:xfrm>
            <a:off x="1149840" y="2142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EDU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71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72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7072200" y="3786120"/>
          <a:ext cx="1571760" cy="963720"/>
        </p:xfrm>
        <a:graphic>
          <a:graphicData uri="http://schemas.openxmlformats.org/drawingml/2006/table">
            <a:tbl>
              <a:tblPr/>
              <a:tblGrid>
                <a:gridCol w="157176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uroci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múltip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emo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14 CuadroTexto"/>
          <p:cNvSpPr/>
          <p:nvPr/>
        </p:nvSpPr>
        <p:spPr>
          <a:xfrm>
            <a:off x="1229400" y="857160"/>
            <a:ext cx="31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novación en el ámbito del profes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5 CuadroTexto"/>
          <p:cNvSpPr/>
          <p:nvPr/>
        </p:nvSpPr>
        <p:spPr>
          <a:xfrm>
            <a:off x="5490360" y="438120"/>
            <a:ext cx="34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novación en el ámbito de las compe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6 CuadroTexto"/>
          <p:cNvSpPr/>
          <p:nvPr/>
        </p:nvSpPr>
        <p:spPr>
          <a:xfrm>
            <a:off x="6999840" y="3510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Tal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7 CuadroTexto"/>
          <p:cNvSpPr/>
          <p:nvPr/>
        </p:nvSpPr>
        <p:spPr>
          <a:xfrm>
            <a:off x="1015920" y="3143160"/>
            <a:ext cx="32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novación en el entorno-centro edu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8 CuadroTexto"/>
          <p:cNvSpPr/>
          <p:nvPr/>
        </p:nvSpPr>
        <p:spPr>
          <a:xfrm>
            <a:off x="4148640" y="4643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14280" y="1214280"/>
          <a:ext cx="3000600" cy="178596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21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rol doc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s retos educ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ción continua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mundo educ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es en las pers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r en qué momento es necesaria este tipo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laborales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500800" y="857160"/>
          <a:ext cx="3214440" cy="2266920"/>
        </p:xfrm>
        <a:graphic>
          <a:graphicData uri="http://schemas.openxmlformats.org/drawingml/2006/table">
            <a:tbl>
              <a:tblPr/>
              <a:tblGrid>
                <a:gridCol w="3214440"/>
              </a:tblGrid>
              <a:tr h="3142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clave. ¿Cómo se aprenden? ¿Cómo se desarrolla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 “por qué”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capacidades context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aula para las competencias. Metodología, Organización en el centro, cambios tecnológicos; ..desde lo social y desde lo profes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curríc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ologías y evaluación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el objeto a conseguir sin despreciar el conocimien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básicas: formar-cualificar al ciudadano/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71720" y="3500280"/>
          <a:ext cx="2786040" cy="167004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entro como unidad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evas formas de gestionar los centros: nuevos horarios, nuevos modelos organiz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ami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articip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mundo empresarial y los medios de comun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ituciones y agentes sociales del ento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20 Rectángulo"/>
          <p:cNvSpPr/>
          <p:nvPr/>
        </p:nvSpPr>
        <p:spPr>
          <a:xfrm>
            <a:off x="4071960" y="5286240"/>
            <a:ext cx="20001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Aportación desde el i-talde de educación al i-talde de indicadores de Innobasqu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09 CuadroTexto"/>
          <p:cNvSpPr/>
          <p:nvPr/>
        </p:nvSpPr>
        <p:spPr>
          <a:xfrm>
            <a:off x="1042920" y="549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Calibri"/>
              </a:rPr>
              <a:t>INNOVACIÓN SOCIAL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¿QUE PUNTOS VOY A  ABORD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55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56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0 CuadroTexto"/>
          <p:cNvSpPr/>
          <p:nvPr/>
        </p:nvSpPr>
        <p:spPr>
          <a:xfrm>
            <a:off x="1231200" y="2286000"/>
            <a:ext cx="788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La Innovación Social y sus ámbitos, desde Innoba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Cómo estamos trabajando la Innovación en Educación y en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Conclusiones del estudio “Valores en la Escuela Vas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¿Qué dicen los doce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Dificultades y 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09 CuadroTexto"/>
          <p:cNvSpPr/>
          <p:nvPr/>
        </p:nvSpPr>
        <p:spPr>
          <a:xfrm>
            <a:off x="1001880" y="71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INNOVACIO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61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62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19 CuadroTexto"/>
          <p:cNvSpPr/>
          <p:nvPr/>
        </p:nvSpPr>
        <p:spPr>
          <a:xfrm>
            <a:off x="1000080" y="1357200"/>
            <a:ext cx="7572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Calibri"/>
              </a:rPr>
              <a:t>Obje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n-US" sz="1600" spc="-1" strike="noStrike" u="sng">
                <a:solidFill>
                  <a:srgbClr val="d60093"/>
                </a:solidFill>
                <a:uFillTx/>
                <a:latin typeface="Calibri"/>
              </a:rPr>
              <a:t>área de innovación social</a:t>
            </a:r>
            <a:r>
              <a:rPr b="1" lang="en-US" sz="1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ta de profundizar en la tarea de </a:t>
            </a:r>
            <a:r>
              <a:rPr b="1" lang="en-US" sz="1600" spc="-1" strike="noStrike">
                <a:solidFill>
                  <a:srgbClr val="cc0066"/>
                </a:solidFill>
                <a:latin typeface="Calibri"/>
              </a:rPr>
              <a:t>construir una sociedad innovadora en todos los ámbito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, en la que todas las personas vivan los valores asociados a la innovación. Para ello es necesario </a:t>
            </a:r>
            <a:r>
              <a:rPr b="1" lang="en-US" sz="1600" spc="-1" strike="noStrike">
                <a:solidFill>
                  <a:srgbClr val="cc0066"/>
                </a:solidFill>
                <a:latin typeface="Calibri"/>
              </a:rPr>
              <a:t>sensibilizar y mentalizar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 toda la sociedad, sobre la relevancia de la innovación para la mejora de la calidad de vida de la ciudadan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0 CuadroTexto"/>
          <p:cNvSpPr/>
          <p:nvPr/>
        </p:nvSpPr>
        <p:spPr>
          <a:xfrm>
            <a:off x="1143000" y="3500280"/>
            <a:ext cx="7500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Se  trata de fomentar un </a:t>
            </a:r>
            <a:r>
              <a:rPr b="1" lang="es-ES" sz="1600" spc="-1" strike="noStrike" u="sng">
                <a:solidFill>
                  <a:srgbClr val="d60093"/>
                </a:solidFill>
                <a:uFillTx/>
                <a:latin typeface="Calibri"/>
              </a:rPr>
              <a:t>cambio cultural</a:t>
            </a: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que potencie </a:t>
            </a:r>
            <a:r>
              <a:rPr b="1" lang="es-ES" sz="1600" spc="-1" strike="noStrike" u="sng">
                <a:solidFill>
                  <a:srgbClr val="d60093"/>
                </a:solidFill>
                <a:uFillTx/>
                <a:latin typeface="Calibri"/>
              </a:rPr>
              <a:t>valores</a:t>
            </a: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vinculados -por ejemplo- a la educación y la formación, a la igualdad de género, a la diversidad, a la participación, a la calidad del empleo, a la responsabilidad social de las organizaciones, al envejecimiento activo, y otros como la creatividad, la audacia, el compromiso sensato con el riesgo, la curiosidad, el espíritu explorador de nuevas y mejores alternativas (el espíritu emprendedor), la valoración social de quien fracasa en un noble intento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09 CuadroTexto"/>
          <p:cNvSpPr/>
          <p:nvPr/>
        </p:nvSpPr>
        <p:spPr>
          <a:xfrm>
            <a:off x="1001880" y="71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INNOVACIO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68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69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21 CuadroTexto"/>
          <p:cNvSpPr/>
          <p:nvPr/>
        </p:nvSpPr>
        <p:spPr>
          <a:xfrm>
            <a:off x="1071720" y="1643040"/>
            <a:ext cx="75009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innovación es, SIEMPRE, un fenómeno social, que implica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a personas, organizaciones y a la sociedad en su conjunto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. Las personas son (es) el eje central del proyecto Innobas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Entendemos las Innovaciones Sociales como procesos de participación creativa de personas que persiguen mejorar situaciones sociales, aportando propuestas no experimentadas anterior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dar cuerpo a estas ideas he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tablecido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cuatro grandes ámbitos de actuación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, y una serie de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ejes potenciales vinculados a cada ámbito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y un número -todavía indeterminado- de programas y proyectos que deberán ser decididos por los i-Talde respectiv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10 Rectángulo"/>
          <p:cNvGrpSpPr/>
          <p:nvPr/>
        </p:nvGrpSpPr>
        <p:grpSpPr>
          <a:xfrm>
            <a:off x="1042920" y="2637000"/>
            <a:ext cx="7338960" cy="1368000"/>
            <a:chOff x="1042920" y="2637000"/>
            <a:chExt cx="7338960" cy="1368000"/>
          </a:xfrm>
        </p:grpSpPr>
        <p:pic>
          <p:nvPicPr>
            <p:cNvPr id="73" name="10 Rectángulo" descr=""/>
            <p:cNvPicPr/>
            <p:nvPr/>
          </p:nvPicPr>
          <p:blipFill>
            <a:blip r:embed="rId3"/>
            <a:stretch/>
          </p:blipFill>
          <p:spPr>
            <a:xfrm>
              <a:off x="1042920" y="2637000"/>
              <a:ext cx="733896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71720" y="2678760"/>
              <a:ext cx="728640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2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09 CuadroTexto"/>
          <p:cNvSpPr/>
          <p:nvPr/>
        </p:nvSpPr>
        <p:spPr>
          <a:xfrm>
            <a:off x="1149840" y="3571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AMBITOS DE LA INNOVACIO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77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78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11 Diagrama" descr=""/>
          <p:cNvPicPr/>
          <p:nvPr/>
        </p:nvPicPr>
        <p:blipFill>
          <a:blip r:embed="rId3"/>
          <a:stretch/>
        </p:blipFill>
        <p:spPr>
          <a:xfrm>
            <a:off x="1427040" y="1352520"/>
            <a:ext cx="7229520" cy="4249800"/>
          </a:xfrm>
          <a:prstGeom prst="rect">
            <a:avLst/>
          </a:prstGeom>
          <a:ln w="0">
            <a:noFill/>
          </a:ln>
        </p:spPr>
      </p:pic>
      <p:grpSp>
        <p:nvGrpSpPr>
          <p:cNvPr id="81" name="12 Grupo"/>
          <p:cNvGrpSpPr/>
          <p:nvPr/>
        </p:nvGrpSpPr>
        <p:grpSpPr>
          <a:xfrm>
            <a:off x="3300480" y="2997360"/>
            <a:ext cx="5316480" cy="1860480"/>
            <a:chOff x="3300480" y="2997360"/>
            <a:chExt cx="5316480" cy="1860480"/>
          </a:xfrm>
        </p:grpSpPr>
        <p:pic>
          <p:nvPicPr>
            <p:cNvPr id="82" name="13 Rectángulo" descr=""/>
            <p:cNvPicPr/>
            <p:nvPr/>
          </p:nvPicPr>
          <p:blipFill>
            <a:blip r:embed="rId4"/>
            <a:stretch/>
          </p:blipFill>
          <p:spPr>
            <a:xfrm>
              <a:off x="3300480" y="2997360"/>
              <a:ext cx="255204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14 Rectángulo" descr=""/>
            <p:cNvPicPr/>
            <p:nvPr/>
          </p:nvPicPr>
          <p:blipFill>
            <a:blip r:embed="rId5"/>
            <a:stretch/>
          </p:blipFill>
          <p:spPr>
            <a:xfrm>
              <a:off x="6016320" y="3985200"/>
              <a:ext cx="2600640" cy="87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15 CuadroTexto"/>
          <p:cNvSpPr/>
          <p:nvPr/>
        </p:nvSpPr>
        <p:spPr>
          <a:xfrm rot="19059600">
            <a:off x="1829160" y="20923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-TA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2 CuadroTexto"/>
          <p:cNvSpPr/>
          <p:nvPr/>
        </p:nvSpPr>
        <p:spPr>
          <a:xfrm rot="19957200">
            <a:off x="977760" y="5789520"/>
            <a:ext cx="150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Derechos Bás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Igualdad de ge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Pen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6 CuadroTexto"/>
          <p:cNvSpPr/>
          <p:nvPr/>
        </p:nvSpPr>
        <p:spPr>
          <a:xfrm rot="19957200">
            <a:off x="2276280" y="6141960"/>
            <a:ext cx="13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Protección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Ingresos mín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7 CuadroTexto"/>
          <p:cNvSpPr/>
          <p:nvPr/>
        </p:nvSpPr>
        <p:spPr>
          <a:xfrm rot="19957200">
            <a:off x="3817080" y="5962680"/>
            <a:ext cx="83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De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Tur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Consu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8 CuadroTexto"/>
          <p:cNvSpPr/>
          <p:nvPr/>
        </p:nvSpPr>
        <p:spPr>
          <a:xfrm rot="19957200">
            <a:off x="4874040" y="5940360"/>
            <a:ext cx="143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Proces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Tercer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osten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9 CuadroTexto"/>
          <p:cNvSpPr/>
          <p:nvPr/>
        </p:nvSpPr>
        <p:spPr>
          <a:xfrm>
            <a:off x="935280" y="3816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EDU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91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92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19 Diagrama" descr=""/>
          <p:cNvPicPr/>
          <p:nvPr/>
        </p:nvPicPr>
        <p:blipFill>
          <a:blip r:embed="rId3"/>
          <a:stretch/>
        </p:blipFill>
        <p:spPr>
          <a:xfrm>
            <a:off x="706320" y="493560"/>
            <a:ext cx="7944120" cy="590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214880" y="6114960"/>
          <a:ext cx="1214280" cy="61272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urocienc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múltip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emocion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23 Rectángulo"/>
          <p:cNvSpPr/>
          <p:nvPr/>
        </p:nvSpPr>
        <p:spPr>
          <a:xfrm>
            <a:off x="1428840" y="5786280"/>
            <a:ext cx="1357200" cy="4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Calibri"/>
              </a:rPr>
              <a:t>Aportación desde el i-talde de educación al i-talde de indicadores de Innobasqu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57160" y="857160"/>
          <a:ext cx="1500120" cy="1227240"/>
        </p:xfrm>
        <a:graphic>
          <a:graphicData uri="http://schemas.openxmlformats.org/drawingml/2006/table">
            <a:tbl>
              <a:tblPr/>
              <a:tblGrid>
                <a:gridCol w="1500120"/>
              </a:tblGrid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entro como unidad de camb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evas formas de gestionar los centros: nuevos horarios, nuevos modelos organizativ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amil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articip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mundo empresarial y los medios de comunic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ituciones y agentes sociales del entor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25 CuadroTexto"/>
          <p:cNvSpPr/>
          <p:nvPr/>
        </p:nvSpPr>
        <p:spPr>
          <a:xfrm>
            <a:off x="3713400" y="335772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INNO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57920" y="357120"/>
          <a:ext cx="2023920" cy="984240"/>
        </p:xfrm>
        <a:graphic>
          <a:graphicData uri="http://schemas.openxmlformats.org/drawingml/2006/table">
            <a:tbl>
              <a:tblPr/>
              <a:tblGrid>
                <a:gridCol w="2023920"/>
              </a:tblGrid>
              <a:tr h="116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rol doce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s retos educativ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ción continua del profesor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mundo educati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es en las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r en qué momento es necesaria este tipo de Innov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laborales del profesor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358040" y="2643120"/>
          <a:ext cx="1636560" cy="2071800"/>
        </p:xfrm>
        <a:graphic>
          <a:graphicData uri="http://schemas.openxmlformats.org/drawingml/2006/table">
            <a:tbl>
              <a:tblPr/>
              <a:tblGrid>
                <a:gridCol w="1636560"/>
              </a:tblGrid>
              <a:tr h="273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clave. ¿Cómo se aprenden? ¿Cómo se desarrollan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 “por qué” de las competenci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capacidades contextual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aula para las competencias. Metodología, Organización en el centro, cambios tecnológicos; ..desde lo social y desde lo profesional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currícul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ologías y evaluación de las competenci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el objeto a conseguir sin despreciar el conocimiento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básicas: formar-cualificar al ciudadano/a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2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09 CuadroTexto"/>
          <p:cNvSpPr/>
          <p:nvPr/>
        </p:nvSpPr>
        <p:spPr>
          <a:xfrm>
            <a:off x="854640" y="1429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03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04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Rectángulo"/>
          <p:cNvSpPr/>
          <p:nvPr/>
        </p:nvSpPr>
        <p:spPr>
          <a:xfrm>
            <a:off x="1000080" y="1000080"/>
            <a:ext cx="75009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ferenciación y descripción de los principales </a:t>
            </a:r>
            <a:r>
              <a:rPr b="1" lang="en-US" sz="1600" spc="-1" strike="noStrike" u="sng">
                <a:solidFill>
                  <a:srgbClr val="993366"/>
                </a:solidFill>
                <a:uFillTx/>
                <a:latin typeface="Calibri"/>
              </a:rPr>
              <a:t>valores instrumentales y finalista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 propiciaran el desarrollo de la Innovación en el nuevo contexto de la globa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an Valor Central: </a:t>
            </a:r>
            <a:r>
              <a:rPr b="1" lang="en-US" sz="1600" spc="-1" strike="noStrike" u="sng">
                <a:solidFill>
                  <a:srgbClr val="993366"/>
                </a:solidFill>
                <a:uFillTx/>
                <a:latin typeface="Calibri"/>
              </a:rPr>
              <a:t>LA PERSON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el pleno y libre desarrollo de conocimientos, habilidades y actitudes favorables a la innov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acto de los valores en diferentes ámbitos de la sociedad: Educación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15 Diagrama" descr=""/>
          <p:cNvPicPr/>
          <p:nvPr/>
        </p:nvPicPr>
        <p:blipFill>
          <a:blip r:embed="rId3"/>
          <a:stretch/>
        </p:blipFill>
        <p:spPr>
          <a:xfrm>
            <a:off x="1133640" y="3352680"/>
            <a:ext cx="5206680" cy="3187800"/>
          </a:xfrm>
          <a:prstGeom prst="rect">
            <a:avLst/>
          </a:prstGeom>
          <a:ln w="0">
            <a:noFill/>
          </a:ln>
        </p:spPr>
      </p:pic>
      <p:sp>
        <p:nvSpPr>
          <p:cNvPr id="108" name="16 CuadroTexto"/>
          <p:cNvSpPr/>
          <p:nvPr/>
        </p:nvSpPr>
        <p:spPr>
          <a:xfrm>
            <a:off x="3296880" y="607212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60093"/>
                </a:solidFill>
                <a:uFillTx/>
                <a:latin typeface="Arial"/>
              </a:rPr>
              <a:t>Valores Instrum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10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11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10 CuadroTexto"/>
          <p:cNvSpPr/>
          <p:nvPr/>
        </p:nvSpPr>
        <p:spPr>
          <a:xfrm>
            <a:off x="1447200" y="1071720"/>
            <a:ext cx="64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Valores en la escuela vasc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¿ Que dicen los docen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CuadroTexto"/>
          <p:cNvSpPr/>
          <p:nvPr/>
        </p:nvSpPr>
        <p:spPr>
          <a:xfrm>
            <a:off x="1669320" y="2928960"/>
            <a:ext cx="623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e de situación sobre la 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valores en la enseñanza oblig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2 CuadroTexto"/>
          <p:cNvSpPr/>
          <p:nvPr/>
        </p:nvSpPr>
        <p:spPr>
          <a:xfrm>
            <a:off x="2734560" y="521496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pto. Sociología UPV/EHU (año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17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18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11 CuadroTexto"/>
          <p:cNvSpPr/>
          <p:nvPr/>
        </p:nvSpPr>
        <p:spPr>
          <a:xfrm>
            <a:off x="1712160" y="21420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Debilidades y obstáculos (dificultades)  propios d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con los valores en los centros y en la escuela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8 Elipse"/>
          <p:cNvGrpSpPr/>
          <p:nvPr/>
        </p:nvGrpSpPr>
        <p:grpSpPr>
          <a:xfrm>
            <a:off x="969840" y="1109520"/>
            <a:ext cx="1986120" cy="1846440"/>
            <a:chOff x="969840" y="1109520"/>
            <a:chExt cx="1986120" cy="1846440"/>
          </a:xfrm>
        </p:grpSpPr>
        <p:pic>
          <p:nvPicPr>
            <p:cNvPr id="122" name="8 Elipse" descr=""/>
            <p:cNvPicPr/>
            <p:nvPr/>
          </p:nvPicPr>
          <p:blipFill>
            <a:blip r:embed="rId3"/>
            <a:stretch/>
          </p:blipFill>
          <p:spPr>
            <a:xfrm>
              <a:off x="969840" y="1109520"/>
              <a:ext cx="198612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282680" y="1405080"/>
              <a:ext cx="136368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ificultades que tienen que ver con la propia organización y estructura de las escue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13 Elipse"/>
          <p:cNvGrpSpPr/>
          <p:nvPr/>
        </p:nvGrpSpPr>
        <p:grpSpPr>
          <a:xfrm>
            <a:off x="1042920" y="3754440"/>
            <a:ext cx="1981440" cy="1841400"/>
            <a:chOff x="1042920" y="3754440"/>
            <a:chExt cx="1981440" cy="1841400"/>
          </a:xfrm>
        </p:grpSpPr>
        <p:pic>
          <p:nvPicPr>
            <p:cNvPr id="125" name="13 Elipse" descr=""/>
            <p:cNvPicPr/>
            <p:nvPr/>
          </p:nvPicPr>
          <p:blipFill>
            <a:blip r:embed="rId4"/>
            <a:stretch/>
          </p:blipFill>
          <p:spPr>
            <a:xfrm>
              <a:off x="1042920" y="3754440"/>
              <a:ext cx="198144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353960" y="4048200"/>
              <a:ext cx="136368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Especialmente con el papel que juegan las comunidades educativas, es decir, profesorado, padres y alum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15 Conector recto de flecha"/>
          <p:cNvCxnSpPr/>
          <p:nvPr/>
        </p:nvCxnSpPr>
        <p:spPr>
          <a:xfrm flipH="1">
            <a:off x="1999440" y="2999880"/>
            <a:ext cx="1080" cy="71532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8" name="17 CuadroTexto"/>
          <p:cNvSpPr/>
          <p:nvPr/>
        </p:nvSpPr>
        <p:spPr>
          <a:xfrm>
            <a:off x="3387600" y="1143000"/>
            <a:ext cx="512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icultades derivadas de la “debilidad del mensaje”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concebi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cuentemente como “formación complementaria”,  frente al ren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los resultados académicos como prioridad de la labor edu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8 CuadroTexto"/>
          <p:cNvSpPr/>
          <p:nvPr/>
        </p:nvSpPr>
        <p:spPr>
          <a:xfrm>
            <a:off x="3239280" y="2000160"/>
            <a:ext cx="532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a poco gratificante y desalentador para el profesorad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o si no se es consciente de que trabajar en valores no ofrece 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rto plaz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9 CuadroTexto"/>
          <p:cNvSpPr/>
          <p:nvPr/>
        </p:nvSpPr>
        <p:spPr>
          <a:xfrm>
            <a:off x="3310920" y="2857680"/>
            <a:ext cx="548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debilidad e incoherencia del código ético por el que opta la escuel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cuela se ve en desventaja y limitada a la hora  de contrarrestar el ef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otras experiencias de socialización en valores discordantes u opuesto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que ella trabaja. a corto plaz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0 CuadroTexto"/>
          <p:cNvSpPr/>
          <p:nvPr/>
        </p:nvSpPr>
        <p:spPr>
          <a:xfrm>
            <a:off x="3303000" y="3884760"/>
            <a:ext cx="54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ficultades y debilidades relacionadas con la labor de los docente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u posición en la transmisión de valores.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istencia a al implicación y 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romiso. ·Buena parte del profesorado  opina que su labor no es edu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 formar en valores sino enseñar la materia (ens. Secundar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1 CuadroTexto"/>
          <p:cNvSpPr/>
          <p:nvPr/>
        </p:nvSpPr>
        <p:spPr>
          <a:xfrm>
            <a:off x="3307680" y="4786200"/>
            <a:ext cx="50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onibilidad e implicación del profesorad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ta de convicció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ta de voluntad y g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2 CuadroTexto"/>
          <p:cNvSpPr/>
          <p:nvPr/>
        </p:nvSpPr>
        <p:spPr>
          <a:xfrm>
            <a:off x="3319200" y="5324400"/>
            <a:ext cx="541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icultades organizativas y metodológica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nen una cierta dim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voluntar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9:16:47Z</dcterms:created>
  <dc:creator> </dc:creator>
  <dc:description/>
  <dc:language>en-US</dc:language>
  <cp:lastModifiedBy>lmullibarri</cp:lastModifiedBy>
  <dcterms:modified xsi:type="dcterms:W3CDTF">2009-05-05T11:15:21Z</dcterms:modified>
  <cp:revision>158</cp:revision>
  <dc:subject/>
  <dc:title>Diapositiva 1</dc:title>
</cp:coreProperties>
</file>